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9.pct" ContentType="image/x-pict"/>
  <Override PartName="/ppt/media/image5.jpeg" ContentType="image/jpeg"/>
  <Override PartName="/ppt/media/image6.jpeg" ContentType="image/jpeg"/>
  <Override PartName="/ppt/media/image10.pct" ContentType="image/x-pict"/>
  <Override PartName="/ppt/media/image7.jpeg" ContentType="image/jpe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  <a:ea typeface="ヒラギノ角ゴ Pro W3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  <a:ea typeface="ヒラギノ角ゴ Pro W3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  <a:ea typeface="ヒラギノ角ゴ Pro W3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F1B2-7C96-4D2F-BE1F-5A2B96F53FCC}" type="slidenum"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major parts of TMJ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ontology is in the parts finding, relationships, landmarks and frames of reference because it all relates to objects in reality are significant.  This is a different to measurement.  Divide arbitrarily-do A, b,c,d equiportioned-- this is not arbitrary it corresponds to what existsin reality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bona fide, fiat and caviti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onnectedness grap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first level of abstraction:  abstract out entiies that we know are there. choose coarse--major big parts fiv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econd level of abstraction:  abstracting out size.  What we have is connectednes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Value: everyone has different size but must have same connectedness graph. 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graph is a data structure in computer model.  Arcs and nodes.  Attach measurerment.  Degrees of attachment; lengths of attachment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table and moving gives you a coordinate system where frame is fixed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first: identify landmarks which are independent of individuals; they canonica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order the landmarks; identify on the landmark the order of hitting the landmark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identify the order of the landmark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is is our frame of reference and then we relate other objects to these landmarks and the places between the landmarks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landmarks are the fiat boundaries and the names are of the fiat parts between boundari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parts inherit the order of the landmarks--so if you know where you are you can predict where you are and are go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 three axis coordinate system.  No numbers you adjacent to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with these three frames of reference you can map various configurations with variables such pain or defined pathologies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every human has a unique location in this frame of reference (this is an abstract space) .   the framed of reference is no human on earth is not represented on this thing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people will cluster  can #;s in clusters and quantify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path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425680"/>
            <a:ext cx="817884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 REASONING WITH IMAGE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USE OF IMAGES IN CLINICAL RESEARC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280" y="4871520"/>
            <a:ext cx="8178840" cy="109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omas Bittn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ouis Goldber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niversity at Buffal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69480" y="306000"/>
            <a:ext cx="8178840" cy="585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RECAPTURE OF THE DISC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01640" y="2035080"/>
            <a:ext cx="3538440" cy="3905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753080" y="2224080"/>
            <a:ext cx="4267080" cy="3414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89680" y="6338880"/>
            <a:ext cx="455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Times New Roman"/>
              </a:rPr>
              <a:t>Annika Isberg,Temporomandibular joint Dysfunction:A Practitioner's Guide,  ISIS Medical Media, 20019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21960" y="1985760"/>
            <a:ext cx="8178840" cy="663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5120" y="3357360"/>
            <a:ext cx="8178840" cy="206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present the relationships among the condyle, the articular disc and the temporal bone in an automatic syste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80640" y="2270160"/>
            <a:ext cx="8178840" cy="536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e practical point of view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01880" y="4352760"/>
            <a:ext cx="8178480" cy="1074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ontology must be immediately useful to a specific research enterpris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61600" y="980640"/>
            <a:ext cx="8178840" cy="474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7360" y="1825560"/>
            <a:ext cx="8178840" cy="4246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33520" indent="-533520">
              <a:buClr>
                <a:srgbClr val="0000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Identify the major part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the TMJ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33520" indent="-533520">
              <a:buClr>
                <a:srgbClr val="0000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Establish the connectedness and adjacency relation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among the various par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33520" indent="-533520">
              <a:buClr>
                <a:srgbClr val="0000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Establish the qualitative order relation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using landmarks as frames of refer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33520" indent="-533520">
              <a:buClr>
                <a:srgbClr val="0000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Establish relative size rel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922320"/>
            <a:ext cx="8178840" cy="752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Gill Sans"/>
              </a:rPr>
              <a:t>Major parts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 of the TMJ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7520" y="2752560"/>
            <a:ext cx="8178480" cy="2540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TMJ is a real, three dimensional structu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oose the </a:t>
            </a: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coarsest level of granularit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sufficient to distinguish the major </a:t>
            </a: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proper parts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f the TMJ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ross anatomical granularity in this ca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9360" y="1947960"/>
            <a:ext cx="8178840" cy="565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Major parts of the TMJ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80680" y="3105000"/>
            <a:ext cx="8178840" cy="2686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terial par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igid par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on-rigid part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avit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69920" y="2187720"/>
            <a:ext cx="5943600" cy="4103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983200" y="4702320"/>
            <a:ext cx="1600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NTERIO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5200" y="671400"/>
            <a:ext cx="8178480" cy="565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aterial part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"/>
          <p:cNvSpPr/>
          <p:nvPr/>
        </p:nvSpPr>
        <p:spPr>
          <a:xfrm>
            <a:off x="2071800" y="2384280"/>
            <a:ext cx="568620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"/>
          <p:cNvSpPr/>
          <p:nvPr/>
        </p:nvSpPr>
        <p:spPr>
          <a:xfrm>
            <a:off x="2043000" y="3352680"/>
            <a:ext cx="1766880" cy="2822760"/>
          </a:xfrm>
          <a:custGeom>
            <a:avLst/>
            <a:gdLst/>
            <a:ahLst/>
            <a:rect l="l" t="t" r="r" b="b"/>
            <a:pathLst>
              <a:path w="1113" h="1778">
                <a:moveTo>
                  <a:pt x="18" y="1501"/>
                </a:moveTo>
                <a:lnTo>
                  <a:pt x="221" y="1433"/>
                </a:lnTo>
                <a:lnTo>
                  <a:pt x="406" y="1292"/>
                </a:lnTo>
                <a:lnTo>
                  <a:pt x="566" y="1089"/>
                </a:lnTo>
                <a:lnTo>
                  <a:pt x="603" y="892"/>
                </a:lnTo>
                <a:lnTo>
                  <a:pt x="701" y="572"/>
                </a:lnTo>
                <a:lnTo>
                  <a:pt x="763" y="264"/>
                </a:lnTo>
                <a:lnTo>
                  <a:pt x="855" y="92"/>
                </a:lnTo>
                <a:lnTo>
                  <a:pt x="1015" y="0"/>
                </a:lnTo>
                <a:lnTo>
                  <a:pt x="1113" y="0"/>
                </a:lnTo>
                <a:lnTo>
                  <a:pt x="1089" y="160"/>
                </a:lnTo>
                <a:lnTo>
                  <a:pt x="1076" y="221"/>
                </a:lnTo>
                <a:lnTo>
                  <a:pt x="898" y="270"/>
                </a:lnTo>
                <a:lnTo>
                  <a:pt x="800" y="492"/>
                </a:lnTo>
                <a:lnTo>
                  <a:pt x="800" y="695"/>
                </a:lnTo>
                <a:lnTo>
                  <a:pt x="843" y="750"/>
                </a:lnTo>
                <a:lnTo>
                  <a:pt x="861" y="1015"/>
                </a:lnTo>
                <a:lnTo>
                  <a:pt x="910" y="1292"/>
                </a:lnTo>
                <a:lnTo>
                  <a:pt x="990" y="1538"/>
                </a:lnTo>
                <a:lnTo>
                  <a:pt x="1046" y="1716"/>
                </a:lnTo>
                <a:lnTo>
                  <a:pt x="1046" y="1778"/>
                </a:lnTo>
                <a:lnTo>
                  <a:pt x="0" y="1766"/>
                </a:lnTo>
                <a:lnTo>
                  <a:pt x="18" y="1501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"/>
          <p:cNvSpPr/>
          <p:nvPr/>
        </p:nvSpPr>
        <p:spPr>
          <a:xfrm>
            <a:off x="3390840" y="3772080"/>
            <a:ext cx="1670040" cy="238428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"/>
          <p:cNvSpPr/>
          <p:nvPr/>
        </p:nvSpPr>
        <p:spPr>
          <a:xfrm>
            <a:off x="3772080" y="3271680"/>
            <a:ext cx="1230120" cy="998640"/>
          </a:xfrm>
          <a:custGeom>
            <a:avLst/>
            <a:gdLst/>
            <a:ahLst/>
            <a:rect l="l" t="t" r="r" b="b"/>
            <a:pathLst>
              <a:path w="775" h="629">
                <a:moveTo>
                  <a:pt x="49" y="51"/>
                </a:moveTo>
                <a:cubicBezTo>
                  <a:pt x="142" y="0"/>
                  <a:pt x="106" y="1"/>
                  <a:pt x="147" y="1"/>
                </a:cubicBezTo>
                <a:lnTo>
                  <a:pt x="283" y="26"/>
                </a:lnTo>
                <a:lnTo>
                  <a:pt x="375" y="124"/>
                </a:lnTo>
                <a:lnTo>
                  <a:pt x="486" y="223"/>
                </a:lnTo>
                <a:lnTo>
                  <a:pt x="597" y="334"/>
                </a:lnTo>
                <a:lnTo>
                  <a:pt x="701" y="426"/>
                </a:lnTo>
                <a:lnTo>
                  <a:pt x="763" y="512"/>
                </a:lnTo>
                <a:lnTo>
                  <a:pt x="775" y="586"/>
                </a:lnTo>
                <a:lnTo>
                  <a:pt x="726" y="629"/>
                </a:lnTo>
                <a:lnTo>
                  <a:pt x="646" y="629"/>
                </a:lnTo>
                <a:lnTo>
                  <a:pt x="578" y="604"/>
                </a:lnTo>
                <a:lnTo>
                  <a:pt x="523" y="469"/>
                </a:lnTo>
                <a:lnTo>
                  <a:pt x="461" y="383"/>
                </a:lnTo>
                <a:lnTo>
                  <a:pt x="357" y="303"/>
                </a:lnTo>
                <a:lnTo>
                  <a:pt x="227" y="303"/>
                </a:lnTo>
                <a:lnTo>
                  <a:pt x="86" y="266"/>
                </a:lnTo>
                <a:lnTo>
                  <a:pt x="0" y="260"/>
                </a:lnTo>
                <a:lnTo>
                  <a:pt x="49" y="5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"/>
          <p:cNvSpPr/>
          <p:nvPr/>
        </p:nvSpPr>
        <p:spPr>
          <a:xfrm>
            <a:off x="4611600" y="3244680"/>
            <a:ext cx="3156120" cy="2095560"/>
          </a:xfrm>
          <a:custGeom>
            <a:avLst/>
            <a:gdLst/>
            <a:ahLst/>
            <a:rect l="l" t="t" r="r" b="b"/>
            <a:pathLst>
              <a:path w="1988" h="1320">
                <a:moveTo>
                  <a:pt x="12" y="812"/>
                </a:moveTo>
                <a:lnTo>
                  <a:pt x="0" y="1021"/>
                </a:lnTo>
                <a:lnTo>
                  <a:pt x="12" y="1224"/>
                </a:lnTo>
                <a:lnTo>
                  <a:pt x="25" y="1286"/>
                </a:lnTo>
                <a:cubicBezTo>
                  <a:pt x="309" y="1223"/>
                  <a:pt x="308" y="1320"/>
                  <a:pt x="308" y="1218"/>
                </a:cubicBezTo>
                <a:lnTo>
                  <a:pt x="658" y="1212"/>
                </a:lnTo>
                <a:lnTo>
                  <a:pt x="1034" y="1206"/>
                </a:lnTo>
                <a:cubicBezTo>
                  <a:pt x="1527" y="1174"/>
                  <a:pt x="1361" y="1175"/>
                  <a:pt x="1532" y="1175"/>
                </a:cubicBezTo>
                <a:lnTo>
                  <a:pt x="1951" y="1126"/>
                </a:lnTo>
                <a:lnTo>
                  <a:pt x="1969" y="437"/>
                </a:lnTo>
                <a:lnTo>
                  <a:pt x="1551" y="486"/>
                </a:lnTo>
                <a:lnTo>
                  <a:pt x="1963" y="338"/>
                </a:lnTo>
                <a:lnTo>
                  <a:pt x="1988" y="0"/>
                </a:lnTo>
                <a:lnTo>
                  <a:pt x="1637" y="49"/>
                </a:lnTo>
                <a:lnTo>
                  <a:pt x="1366" y="98"/>
                </a:lnTo>
                <a:lnTo>
                  <a:pt x="1126" y="228"/>
                </a:lnTo>
                <a:lnTo>
                  <a:pt x="843" y="412"/>
                </a:lnTo>
                <a:lnTo>
                  <a:pt x="708" y="548"/>
                </a:lnTo>
                <a:lnTo>
                  <a:pt x="462" y="634"/>
                </a:lnTo>
                <a:lnTo>
                  <a:pt x="246" y="664"/>
                </a:lnTo>
                <a:lnTo>
                  <a:pt x="105" y="689"/>
                </a:lnTo>
                <a:lnTo>
                  <a:pt x="12" y="812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"/>
          <p:cNvSpPr/>
          <p:nvPr/>
        </p:nvSpPr>
        <p:spPr>
          <a:xfrm>
            <a:off x="3084480" y="6670800"/>
            <a:ext cx="582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MDs: An Evidence Based-Approach to Diagnosis and Treatment.  (2006) Eds: D. M. Laskin, C. S. Greene, W. L. Hylander. Quintessence Books, Chicago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Gill Sans"/>
              </a:rPr>
              <a:t>Rigid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 material part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"/>
          <p:cNvSpPr/>
          <p:nvPr/>
        </p:nvSpPr>
        <p:spPr>
          <a:xfrm>
            <a:off x="4317840" y="2178000"/>
            <a:ext cx="568656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"/>
          <p:cNvSpPr/>
          <p:nvPr/>
        </p:nvSpPr>
        <p:spPr>
          <a:xfrm>
            <a:off x="5637240" y="3565440"/>
            <a:ext cx="1670040" cy="238464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"/>
          <p:cNvSpPr/>
          <p:nvPr/>
        </p:nvSpPr>
        <p:spPr>
          <a:xfrm>
            <a:off x="223560" y="2808360"/>
            <a:ext cx="339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parts that do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072080" y="4092120"/>
            <a:ext cx="3695040" cy="1818360"/>
            <a:chOff x="1072080" y="4092120"/>
            <a:chExt cx="3695040" cy="1818360"/>
          </a:xfrm>
        </p:grpSpPr>
        <p:sp>
          <p:nvSpPr>
            <p:cNvPr id="92" name=""/>
            <p:cNvSpPr/>
            <p:nvPr/>
          </p:nvSpPr>
          <p:spPr>
            <a:xfrm>
              <a:off x="1072080" y="5329080"/>
              <a:ext cx="112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fixed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914480" y="4092120"/>
              <a:ext cx="2852640" cy="1328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885120" y="5432040"/>
            <a:ext cx="2318760" cy="1708920"/>
            <a:chOff x="3885120" y="5432040"/>
            <a:chExt cx="2318760" cy="1708920"/>
          </a:xfrm>
        </p:grpSpPr>
        <p:sp>
          <p:nvSpPr>
            <p:cNvPr id="95" name=""/>
            <p:cNvSpPr/>
            <p:nvPr/>
          </p:nvSpPr>
          <p:spPr>
            <a:xfrm>
              <a:off x="3885120" y="6559560"/>
              <a:ext cx="182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movabl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4757760" y="5432040"/>
              <a:ext cx="1446120" cy="129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0" y="3038400"/>
            <a:ext cx="3156120" cy="2095560"/>
          </a:xfrm>
          <a:custGeom>
            <a:avLst/>
            <a:gdLst/>
            <a:ahLst/>
            <a:rect l="l" t="t" r="r" b="b"/>
            <a:pathLst>
              <a:path w="1988" h="1320">
                <a:moveTo>
                  <a:pt x="12" y="812"/>
                </a:moveTo>
                <a:lnTo>
                  <a:pt x="0" y="1021"/>
                </a:lnTo>
                <a:lnTo>
                  <a:pt x="12" y="1224"/>
                </a:lnTo>
                <a:lnTo>
                  <a:pt x="25" y="1286"/>
                </a:lnTo>
                <a:cubicBezTo>
                  <a:pt x="309" y="1223"/>
                  <a:pt x="308" y="1320"/>
                  <a:pt x="308" y="1218"/>
                </a:cubicBezTo>
                <a:lnTo>
                  <a:pt x="658" y="1212"/>
                </a:lnTo>
                <a:lnTo>
                  <a:pt x="1034" y="1206"/>
                </a:lnTo>
                <a:cubicBezTo>
                  <a:pt x="1527" y="1174"/>
                  <a:pt x="1361" y="1175"/>
                  <a:pt x="1532" y="1175"/>
                </a:cubicBezTo>
                <a:lnTo>
                  <a:pt x="1951" y="1126"/>
                </a:lnTo>
                <a:lnTo>
                  <a:pt x="1969" y="437"/>
                </a:lnTo>
                <a:lnTo>
                  <a:pt x="1551" y="486"/>
                </a:lnTo>
                <a:lnTo>
                  <a:pt x="1963" y="338"/>
                </a:lnTo>
                <a:lnTo>
                  <a:pt x="1988" y="0"/>
                </a:lnTo>
                <a:lnTo>
                  <a:pt x="1637" y="49"/>
                </a:lnTo>
                <a:lnTo>
                  <a:pt x="1366" y="98"/>
                </a:lnTo>
                <a:lnTo>
                  <a:pt x="1126" y="228"/>
                </a:lnTo>
                <a:lnTo>
                  <a:pt x="843" y="412"/>
                </a:lnTo>
                <a:lnTo>
                  <a:pt x="708" y="548"/>
                </a:lnTo>
                <a:lnTo>
                  <a:pt x="462" y="634"/>
                </a:lnTo>
                <a:lnTo>
                  <a:pt x="246" y="664"/>
                </a:lnTo>
                <a:lnTo>
                  <a:pt x="105" y="689"/>
                </a:lnTo>
                <a:lnTo>
                  <a:pt x="12" y="812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9840" y="457200"/>
            <a:ext cx="885348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Non-rigid material part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"/>
          <p:cNvSpPr/>
          <p:nvPr/>
        </p:nvSpPr>
        <p:spPr>
          <a:xfrm>
            <a:off x="4289400" y="3146400"/>
            <a:ext cx="1766880" cy="2822760"/>
          </a:xfrm>
          <a:custGeom>
            <a:avLst/>
            <a:gdLst/>
            <a:ahLst/>
            <a:rect l="l" t="t" r="r" b="b"/>
            <a:pathLst>
              <a:path w="1113" h="1778">
                <a:moveTo>
                  <a:pt x="18" y="1501"/>
                </a:moveTo>
                <a:lnTo>
                  <a:pt x="221" y="1433"/>
                </a:lnTo>
                <a:lnTo>
                  <a:pt x="406" y="1292"/>
                </a:lnTo>
                <a:lnTo>
                  <a:pt x="566" y="1089"/>
                </a:lnTo>
                <a:lnTo>
                  <a:pt x="603" y="892"/>
                </a:lnTo>
                <a:lnTo>
                  <a:pt x="701" y="572"/>
                </a:lnTo>
                <a:lnTo>
                  <a:pt x="763" y="264"/>
                </a:lnTo>
                <a:lnTo>
                  <a:pt x="855" y="92"/>
                </a:lnTo>
                <a:lnTo>
                  <a:pt x="1015" y="0"/>
                </a:lnTo>
                <a:lnTo>
                  <a:pt x="1113" y="0"/>
                </a:lnTo>
                <a:lnTo>
                  <a:pt x="1089" y="160"/>
                </a:lnTo>
                <a:lnTo>
                  <a:pt x="1076" y="221"/>
                </a:lnTo>
                <a:lnTo>
                  <a:pt x="898" y="270"/>
                </a:lnTo>
                <a:lnTo>
                  <a:pt x="800" y="492"/>
                </a:lnTo>
                <a:lnTo>
                  <a:pt x="800" y="695"/>
                </a:lnTo>
                <a:lnTo>
                  <a:pt x="843" y="750"/>
                </a:lnTo>
                <a:lnTo>
                  <a:pt x="861" y="1015"/>
                </a:lnTo>
                <a:lnTo>
                  <a:pt x="910" y="1292"/>
                </a:lnTo>
                <a:lnTo>
                  <a:pt x="990" y="1538"/>
                </a:lnTo>
                <a:lnTo>
                  <a:pt x="1046" y="1716"/>
                </a:lnTo>
                <a:lnTo>
                  <a:pt x="1046" y="1778"/>
                </a:lnTo>
                <a:lnTo>
                  <a:pt x="0" y="1766"/>
                </a:lnTo>
                <a:lnTo>
                  <a:pt x="18" y="1501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"/>
          <p:cNvSpPr/>
          <p:nvPr/>
        </p:nvSpPr>
        <p:spPr>
          <a:xfrm>
            <a:off x="6018120" y="3065400"/>
            <a:ext cx="1230480" cy="998640"/>
          </a:xfrm>
          <a:custGeom>
            <a:avLst/>
            <a:gdLst/>
            <a:ahLst/>
            <a:rect l="l" t="t" r="r" b="b"/>
            <a:pathLst>
              <a:path w="775" h="629">
                <a:moveTo>
                  <a:pt x="49" y="51"/>
                </a:moveTo>
                <a:cubicBezTo>
                  <a:pt x="142" y="0"/>
                  <a:pt x="106" y="1"/>
                  <a:pt x="147" y="1"/>
                </a:cubicBezTo>
                <a:lnTo>
                  <a:pt x="283" y="26"/>
                </a:lnTo>
                <a:lnTo>
                  <a:pt x="375" y="124"/>
                </a:lnTo>
                <a:lnTo>
                  <a:pt x="486" y="223"/>
                </a:lnTo>
                <a:lnTo>
                  <a:pt x="597" y="334"/>
                </a:lnTo>
                <a:lnTo>
                  <a:pt x="701" y="426"/>
                </a:lnTo>
                <a:lnTo>
                  <a:pt x="763" y="512"/>
                </a:lnTo>
                <a:lnTo>
                  <a:pt x="775" y="586"/>
                </a:lnTo>
                <a:lnTo>
                  <a:pt x="726" y="629"/>
                </a:lnTo>
                <a:lnTo>
                  <a:pt x="646" y="629"/>
                </a:lnTo>
                <a:lnTo>
                  <a:pt x="578" y="604"/>
                </a:lnTo>
                <a:lnTo>
                  <a:pt x="523" y="469"/>
                </a:lnTo>
                <a:lnTo>
                  <a:pt x="461" y="383"/>
                </a:lnTo>
                <a:lnTo>
                  <a:pt x="357" y="303"/>
                </a:lnTo>
                <a:lnTo>
                  <a:pt x="227" y="303"/>
                </a:lnTo>
                <a:lnTo>
                  <a:pt x="86" y="266"/>
                </a:lnTo>
                <a:lnTo>
                  <a:pt x="0" y="260"/>
                </a:lnTo>
                <a:lnTo>
                  <a:pt x="49" y="5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"/>
          <p:cNvSpPr/>
          <p:nvPr/>
        </p:nvSpPr>
        <p:spPr>
          <a:xfrm>
            <a:off x="171360" y="2867040"/>
            <a:ext cx="3732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parts that do 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but the topology does not change: the connected par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emain connecte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854600" y="2881440"/>
            <a:ext cx="3273480" cy="19335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"/>
          <p:cNvSpPr/>
          <p:nvPr/>
        </p:nvSpPr>
        <p:spPr>
          <a:xfrm>
            <a:off x="8229600" y="4495680"/>
            <a:ext cx="1600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NTERIO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avitie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"/>
          <p:cNvSpPr/>
          <p:nvPr/>
        </p:nvSpPr>
        <p:spPr>
          <a:xfrm>
            <a:off x="4317840" y="2178000"/>
            <a:ext cx="568656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"/>
          <p:cNvSpPr/>
          <p:nvPr/>
        </p:nvSpPr>
        <p:spPr>
          <a:xfrm>
            <a:off x="4289400" y="3146400"/>
            <a:ext cx="1766880" cy="2822760"/>
          </a:xfrm>
          <a:custGeom>
            <a:avLst/>
            <a:gdLst/>
            <a:ahLst/>
            <a:rect l="l" t="t" r="r" b="b"/>
            <a:pathLst>
              <a:path w="1113" h="1778">
                <a:moveTo>
                  <a:pt x="18" y="1501"/>
                </a:moveTo>
                <a:lnTo>
                  <a:pt x="221" y="1433"/>
                </a:lnTo>
                <a:lnTo>
                  <a:pt x="406" y="1292"/>
                </a:lnTo>
                <a:lnTo>
                  <a:pt x="566" y="1089"/>
                </a:lnTo>
                <a:lnTo>
                  <a:pt x="603" y="892"/>
                </a:lnTo>
                <a:lnTo>
                  <a:pt x="701" y="572"/>
                </a:lnTo>
                <a:lnTo>
                  <a:pt x="763" y="264"/>
                </a:lnTo>
                <a:lnTo>
                  <a:pt x="855" y="92"/>
                </a:lnTo>
                <a:lnTo>
                  <a:pt x="1015" y="0"/>
                </a:lnTo>
                <a:lnTo>
                  <a:pt x="1113" y="0"/>
                </a:lnTo>
                <a:lnTo>
                  <a:pt x="1089" y="160"/>
                </a:lnTo>
                <a:lnTo>
                  <a:pt x="1076" y="221"/>
                </a:lnTo>
                <a:lnTo>
                  <a:pt x="898" y="270"/>
                </a:lnTo>
                <a:lnTo>
                  <a:pt x="800" y="492"/>
                </a:lnTo>
                <a:lnTo>
                  <a:pt x="800" y="695"/>
                </a:lnTo>
                <a:lnTo>
                  <a:pt x="843" y="750"/>
                </a:lnTo>
                <a:lnTo>
                  <a:pt x="861" y="1015"/>
                </a:lnTo>
                <a:lnTo>
                  <a:pt x="910" y="1292"/>
                </a:lnTo>
                <a:lnTo>
                  <a:pt x="990" y="1538"/>
                </a:lnTo>
                <a:lnTo>
                  <a:pt x="1046" y="1716"/>
                </a:lnTo>
                <a:lnTo>
                  <a:pt x="1046" y="1778"/>
                </a:lnTo>
                <a:lnTo>
                  <a:pt x="0" y="1766"/>
                </a:lnTo>
                <a:lnTo>
                  <a:pt x="18" y="1501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"/>
          <p:cNvSpPr/>
          <p:nvPr/>
        </p:nvSpPr>
        <p:spPr>
          <a:xfrm>
            <a:off x="5637240" y="3565440"/>
            <a:ext cx="1670040" cy="238464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"/>
          <p:cNvSpPr/>
          <p:nvPr/>
        </p:nvSpPr>
        <p:spPr>
          <a:xfrm>
            <a:off x="6018120" y="3065400"/>
            <a:ext cx="1230480" cy="998640"/>
          </a:xfrm>
          <a:custGeom>
            <a:avLst/>
            <a:gdLst/>
            <a:ahLst/>
            <a:rect l="l" t="t" r="r" b="b"/>
            <a:pathLst>
              <a:path w="775" h="629">
                <a:moveTo>
                  <a:pt x="49" y="51"/>
                </a:moveTo>
                <a:cubicBezTo>
                  <a:pt x="142" y="0"/>
                  <a:pt x="106" y="1"/>
                  <a:pt x="147" y="1"/>
                </a:cubicBezTo>
                <a:lnTo>
                  <a:pt x="283" y="26"/>
                </a:lnTo>
                <a:lnTo>
                  <a:pt x="375" y="124"/>
                </a:lnTo>
                <a:lnTo>
                  <a:pt x="486" y="223"/>
                </a:lnTo>
                <a:lnTo>
                  <a:pt x="597" y="334"/>
                </a:lnTo>
                <a:lnTo>
                  <a:pt x="701" y="426"/>
                </a:lnTo>
                <a:lnTo>
                  <a:pt x="763" y="512"/>
                </a:lnTo>
                <a:lnTo>
                  <a:pt x="775" y="586"/>
                </a:lnTo>
                <a:lnTo>
                  <a:pt x="726" y="629"/>
                </a:lnTo>
                <a:lnTo>
                  <a:pt x="646" y="629"/>
                </a:lnTo>
                <a:lnTo>
                  <a:pt x="578" y="604"/>
                </a:lnTo>
                <a:lnTo>
                  <a:pt x="523" y="469"/>
                </a:lnTo>
                <a:lnTo>
                  <a:pt x="461" y="383"/>
                </a:lnTo>
                <a:lnTo>
                  <a:pt x="357" y="303"/>
                </a:lnTo>
                <a:lnTo>
                  <a:pt x="227" y="303"/>
                </a:lnTo>
                <a:lnTo>
                  <a:pt x="86" y="266"/>
                </a:lnTo>
                <a:lnTo>
                  <a:pt x="0" y="260"/>
                </a:lnTo>
                <a:lnTo>
                  <a:pt x="49" y="5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3038400"/>
            <a:ext cx="3156120" cy="2095560"/>
          </a:xfrm>
          <a:custGeom>
            <a:avLst/>
            <a:gdLst/>
            <a:ahLst/>
            <a:rect l="l" t="t" r="r" b="b"/>
            <a:pathLst>
              <a:path w="1988" h="1320">
                <a:moveTo>
                  <a:pt x="12" y="812"/>
                </a:moveTo>
                <a:lnTo>
                  <a:pt x="0" y="1021"/>
                </a:lnTo>
                <a:lnTo>
                  <a:pt x="12" y="1224"/>
                </a:lnTo>
                <a:lnTo>
                  <a:pt x="25" y="1286"/>
                </a:lnTo>
                <a:cubicBezTo>
                  <a:pt x="309" y="1223"/>
                  <a:pt x="308" y="1320"/>
                  <a:pt x="308" y="1218"/>
                </a:cubicBezTo>
                <a:lnTo>
                  <a:pt x="658" y="1212"/>
                </a:lnTo>
                <a:lnTo>
                  <a:pt x="1034" y="1206"/>
                </a:lnTo>
                <a:cubicBezTo>
                  <a:pt x="1527" y="1174"/>
                  <a:pt x="1361" y="1175"/>
                  <a:pt x="1532" y="1175"/>
                </a:cubicBezTo>
                <a:lnTo>
                  <a:pt x="1951" y="1126"/>
                </a:lnTo>
                <a:lnTo>
                  <a:pt x="1969" y="437"/>
                </a:lnTo>
                <a:lnTo>
                  <a:pt x="1551" y="486"/>
                </a:lnTo>
                <a:lnTo>
                  <a:pt x="1963" y="338"/>
                </a:lnTo>
                <a:lnTo>
                  <a:pt x="1988" y="0"/>
                </a:lnTo>
                <a:lnTo>
                  <a:pt x="1637" y="49"/>
                </a:lnTo>
                <a:lnTo>
                  <a:pt x="1366" y="98"/>
                </a:lnTo>
                <a:lnTo>
                  <a:pt x="1126" y="228"/>
                </a:lnTo>
                <a:lnTo>
                  <a:pt x="843" y="412"/>
                </a:lnTo>
                <a:lnTo>
                  <a:pt x="708" y="548"/>
                </a:lnTo>
                <a:lnTo>
                  <a:pt x="462" y="634"/>
                </a:lnTo>
                <a:lnTo>
                  <a:pt x="246" y="664"/>
                </a:lnTo>
                <a:lnTo>
                  <a:pt x="105" y="689"/>
                </a:lnTo>
                <a:lnTo>
                  <a:pt x="12" y="812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"/>
          <p:cNvSpPr/>
          <p:nvPr/>
        </p:nvSpPr>
        <p:spPr>
          <a:xfrm>
            <a:off x="669960" y="2857680"/>
            <a:ext cx="3057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filled with liquid: synovial fluid in the case of the TMJ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79040" y="998280"/>
            <a:ext cx="807084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NICAL RESEARCH IN TEMPOROMANDIBULAR DISORD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2960" y="2614680"/>
            <a:ext cx="8178480" cy="42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MD is a pain and disability disord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urrent studies have significantly increased the size of the domain of analysis to capture all relevant variab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 temporomandibular joint (TMJ) is a crucial variable: it drives diagnosis and treatme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ntroversies abound concerning the relationship of joint characteristics as represented in images to patient symptoms and treatment choic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oblem: how to represent TMJ image characteristics in a computer-based system that is interoperable with other data collected in the stud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3440" y="1792080"/>
            <a:ext cx="8178840" cy="1082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we have identified three kinds of entities (parts) in the TMJ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441680"/>
            <a:ext cx="27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material rigi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"/>
          <p:cNvSpPr/>
          <p:nvPr/>
        </p:nvSpPr>
        <p:spPr>
          <a:xfrm>
            <a:off x="3359880" y="448956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material non-rigi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"/>
          <p:cNvSpPr/>
          <p:nvPr/>
        </p:nvSpPr>
        <p:spPr>
          <a:xfrm>
            <a:off x="7463160" y="4462560"/>
            <a:ext cx="159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avit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796760" y="3303720"/>
            <a:ext cx="3057480" cy="115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"/>
          <p:cNvSpPr/>
          <p:nvPr/>
        </p:nvSpPr>
        <p:spPr>
          <a:xfrm>
            <a:off x="4863960" y="3294000"/>
            <a:ext cx="0" cy="118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"/>
          <p:cNvSpPr/>
          <p:nvPr/>
        </p:nvSpPr>
        <p:spPr>
          <a:xfrm>
            <a:off x="4854600" y="3303720"/>
            <a:ext cx="3341520" cy="12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07760" y="3267000"/>
            <a:ext cx="8178840" cy="1209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onnectedness and adjacency relations among the parts of the join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onnectedness Relation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"/>
          <p:cNvSpPr/>
          <p:nvPr/>
        </p:nvSpPr>
        <p:spPr>
          <a:xfrm>
            <a:off x="3414600" y="4214880"/>
            <a:ext cx="10922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NTERIO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23960" y="2303640"/>
            <a:ext cx="3908160" cy="3125160"/>
            <a:chOff x="723960" y="2303640"/>
            <a:chExt cx="3908160" cy="3125160"/>
          </a:xfrm>
        </p:grpSpPr>
        <p:sp>
          <p:nvSpPr>
            <p:cNvPr id="122" name=""/>
            <p:cNvSpPr/>
            <p:nvPr/>
          </p:nvSpPr>
          <p:spPr>
            <a:xfrm>
              <a:off x="743040" y="2303640"/>
              <a:ext cx="3882240" cy="2755080"/>
            </a:xfrm>
            <a:custGeom>
              <a:avLst/>
              <a:gdLst/>
              <a:ahLst/>
              <a:rect l="l" t="t" r="r" b="b"/>
              <a:pathLst>
                <a:path w="3582" h="2105">
                  <a:moveTo>
                    <a:pt x="0" y="2105"/>
                  </a:moveTo>
                  <a:lnTo>
                    <a:pt x="215" y="2025"/>
                  </a:lnTo>
                  <a:lnTo>
                    <a:pt x="369" y="1902"/>
                  </a:lnTo>
                  <a:lnTo>
                    <a:pt x="529" y="1711"/>
                  </a:lnTo>
                  <a:cubicBezTo>
                    <a:pt x="585" y="1488"/>
                    <a:pt x="509" y="1490"/>
                    <a:pt x="591" y="1490"/>
                  </a:cubicBezTo>
                  <a:lnTo>
                    <a:pt x="652" y="1219"/>
                  </a:lnTo>
                  <a:lnTo>
                    <a:pt x="708" y="936"/>
                  </a:lnTo>
                  <a:lnTo>
                    <a:pt x="831" y="653"/>
                  </a:lnTo>
                  <a:lnTo>
                    <a:pt x="942" y="560"/>
                  </a:lnTo>
                  <a:lnTo>
                    <a:pt x="1108" y="499"/>
                  </a:lnTo>
                  <a:lnTo>
                    <a:pt x="1274" y="523"/>
                  </a:lnTo>
                  <a:lnTo>
                    <a:pt x="1471" y="622"/>
                  </a:lnTo>
                  <a:lnTo>
                    <a:pt x="1618" y="751"/>
                  </a:lnTo>
                  <a:lnTo>
                    <a:pt x="1760" y="923"/>
                  </a:lnTo>
                  <a:lnTo>
                    <a:pt x="1926" y="1034"/>
                  </a:lnTo>
                  <a:lnTo>
                    <a:pt x="2043" y="1077"/>
                  </a:lnTo>
                  <a:lnTo>
                    <a:pt x="2283" y="1071"/>
                  </a:lnTo>
                  <a:lnTo>
                    <a:pt x="2486" y="899"/>
                  </a:lnTo>
                  <a:lnTo>
                    <a:pt x="2689" y="770"/>
                  </a:lnTo>
                  <a:lnTo>
                    <a:pt x="2942" y="653"/>
                  </a:lnTo>
                  <a:lnTo>
                    <a:pt x="3280" y="566"/>
                  </a:lnTo>
                  <a:lnTo>
                    <a:pt x="3538" y="530"/>
                  </a:lnTo>
                  <a:lnTo>
                    <a:pt x="3582" y="530"/>
                  </a:lnTo>
                  <a:lnTo>
                    <a:pt x="3563" y="123"/>
                  </a:lnTo>
                  <a:lnTo>
                    <a:pt x="3151" y="240"/>
                  </a:lnTo>
                  <a:lnTo>
                    <a:pt x="2738" y="363"/>
                  </a:lnTo>
                  <a:lnTo>
                    <a:pt x="2271" y="419"/>
                  </a:lnTo>
                  <a:lnTo>
                    <a:pt x="1908" y="437"/>
                  </a:lnTo>
                  <a:lnTo>
                    <a:pt x="1514" y="419"/>
                  </a:lnTo>
                  <a:lnTo>
                    <a:pt x="1157" y="370"/>
                  </a:lnTo>
                  <a:lnTo>
                    <a:pt x="818" y="277"/>
                  </a:lnTo>
                  <a:lnTo>
                    <a:pt x="591" y="160"/>
                  </a:lnTo>
                  <a:lnTo>
                    <a:pt x="406" y="19"/>
                  </a:lnTo>
                  <a:lnTo>
                    <a:pt x="18" y="0"/>
                  </a:lnTo>
                  <a:lnTo>
                    <a:pt x="0" y="2105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3960" y="3101760"/>
              <a:ext cx="1206360" cy="2327040"/>
            </a:xfrm>
            <a:custGeom>
              <a:avLst/>
              <a:gdLst/>
              <a:ahLst/>
              <a:rect l="l" t="t" r="r" b="b"/>
              <a:pathLst>
                <a:path w="1113" h="1778">
                  <a:moveTo>
                    <a:pt x="18" y="1501"/>
                  </a:moveTo>
                  <a:lnTo>
                    <a:pt x="221" y="1433"/>
                  </a:lnTo>
                  <a:lnTo>
                    <a:pt x="406" y="1292"/>
                  </a:lnTo>
                  <a:lnTo>
                    <a:pt x="566" y="1089"/>
                  </a:lnTo>
                  <a:lnTo>
                    <a:pt x="603" y="892"/>
                  </a:lnTo>
                  <a:lnTo>
                    <a:pt x="701" y="572"/>
                  </a:lnTo>
                  <a:lnTo>
                    <a:pt x="763" y="264"/>
                  </a:lnTo>
                  <a:lnTo>
                    <a:pt x="855" y="92"/>
                  </a:lnTo>
                  <a:lnTo>
                    <a:pt x="1015" y="0"/>
                  </a:lnTo>
                  <a:lnTo>
                    <a:pt x="1113" y="0"/>
                  </a:lnTo>
                  <a:lnTo>
                    <a:pt x="1089" y="160"/>
                  </a:lnTo>
                  <a:lnTo>
                    <a:pt x="1076" y="221"/>
                  </a:lnTo>
                  <a:lnTo>
                    <a:pt x="898" y="270"/>
                  </a:lnTo>
                  <a:lnTo>
                    <a:pt x="800" y="492"/>
                  </a:lnTo>
                  <a:lnTo>
                    <a:pt x="800" y="695"/>
                  </a:lnTo>
                  <a:lnTo>
                    <a:pt x="843" y="750"/>
                  </a:lnTo>
                  <a:lnTo>
                    <a:pt x="861" y="1015"/>
                  </a:lnTo>
                  <a:lnTo>
                    <a:pt x="910" y="1292"/>
                  </a:lnTo>
                  <a:lnTo>
                    <a:pt x="990" y="1538"/>
                  </a:lnTo>
                  <a:lnTo>
                    <a:pt x="1046" y="1716"/>
                  </a:lnTo>
                  <a:lnTo>
                    <a:pt x="1046" y="1778"/>
                  </a:lnTo>
                  <a:lnTo>
                    <a:pt x="0" y="1766"/>
                  </a:lnTo>
                  <a:lnTo>
                    <a:pt x="18" y="1501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44120" y="3447360"/>
              <a:ext cx="1140120" cy="1965960"/>
            </a:xfrm>
            <a:custGeom>
              <a:avLst/>
              <a:gdLst/>
              <a:ahLst/>
              <a:rect l="l" t="t" r="r" b="b"/>
              <a:pathLst>
                <a:path w="1052" h="1502">
                  <a:moveTo>
                    <a:pt x="209" y="1502"/>
                  </a:moveTo>
                  <a:cubicBezTo>
                    <a:pt x="209" y="1483"/>
                    <a:pt x="209" y="1464"/>
                    <a:pt x="209" y="1446"/>
                  </a:cubicBezTo>
                  <a:lnTo>
                    <a:pt x="111" y="1139"/>
                  </a:lnTo>
                  <a:lnTo>
                    <a:pt x="37" y="856"/>
                  </a:lnTo>
                  <a:lnTo>
                    <a:pt x="0" y="486"/>
                  </a:lnTo>
                  <a:lnTo>
                    <a:pt x="12" y="265"/>
                  </a:lnTo>
                  <a:lnTo>
                    <a:pt x="111" y="92"/>
                  </a:lnTo>
                  <a:lnTo>
                    <a:pt x="197" y="19"/>
                  </a:lnTo>
                  <a:lnTo>
                    <a:pt x="381" y="0"/>
                  </a:lnTo>
                  <a:lnTo>
                    <a:pt x="523" y="37"/>
                  </a:lnTo>
                  <a:lnTo>
                    <a:pt x="689" y="142"/>
                  </a:lnTo>
                  <a:lnTo>
                    <a:pt x="769" y="283"/>
                  </a:lnTo>
                  <a:lnTo>
                    <a:pt x="769" y="431"/>
                  </a:lnTo>
                  <a:lnTo>
                    <a:pt x="751" y="622"/>
                  </a:lnTo>
                  <a:lnTo>
                    <a:pt x="751" y="782"/>
                  </a:lnTo>
                  <a:lnTo>
                    <a:pt x="763" y="905"/>
                  </a:lnTo>
                  <a:lnTo>
                    <a:pt x="837" y="1102"/>
                  </a:lnTo>
                  <a:lnTo>
                    <a:pt x="941" y="1311"/>
                  </a:lnTo>
                  <a:lnTo>
                    <a:pt x="1052" y="1496"/>
                  </a:lnTo>
                  <a:lnTo>
                    <a:pt x="209" y="1502"/>
                  </a:lnTo>
                  <a:close/>
                </a:path>
              </a:pathLst>
            </a:custGeom>
            <a:solidFill>
              <a:srgbClr val="ff00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04040" y="3035160"/>
              <a:ext cx="839880" cy="822960"/>
            </a:xfrm>
            <a:custGeom>
              <a:avLst/>
              <a:gdLst/>
              <a:ahLst/>
              <a:rect l="l" t="t" r="r" b="b"/>
              <a:pathLst>
                <a:path w="775" h="629">
                  <a:moveTo>
                    <a:pt x="49" y="51"/>
                  </a:moveTo>
                  <a:cubicBezTo>
                    <a:pt x="142" y="0"/>
                    <a:pt x="106" y="1"/>
                    <a:pt x="147" y="1"/>
                  </a:cubicBezTo>
                  <a:lnTo>
                    <a:pt x="283" y="26"/>
                  </a:lnTo>
                  <a:lnTo>
                    <a:pt x="375" y="124"/>
                  </a:lnTo>
                  <a:lnTo>
                    <a:pt x="486" y="223"/>
                  </a:lnTo>
                  <a:lnTo>
                    <a:pt x="597" y="334"/>
                  </a:lnTo>
                  <a:lnTo>
                    <a:pt x="701" y="426"/>
                  </a:lnTo>
                  <a:lnTo>
                    <a:pt x="763" y="512"/>
                  </a:lnTo>
                  <a:lnTo>
                    <a:pt x="775" y="586"/>
                  </a:lnTo>
                  <a:lnTo>
                    <a:pt x="726" y="629"/>
                  </a:lnTo>
                  <a:lnTo>
                    <a:pt x="646" y="629"/>
                  </a:lnTo>
                  <a:lnTo>
                    <a:pt x="578" y="604"/>
                  </a:lnTo>
                  <a:lnTo>
                    <a:pt x="523" y="469"/>
                  </a:lnTo>
                  <a:lnTo>
                    <a:pt x="461" y="383"/>
                  </a:lnTo>
                  <a:lnTo>
                    <a:pt x="357" y="303"/>
                  </a:lnTo>
                  <a:lnTo>
                    <a:pt x="227" y="303"/>
                  </a:lnTo>
                  <a:lnTo>
                    <a:pt x="86" y="266"/>
                  </a:lnTo>
                  <a:lnTo>
                    <a:pt x="0" y="260"/>
                  </a:lnTo>
                  <a:lnTo>
                    <a:pt x="49" y="51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77520" y="2989440"/>
              <a:ext cx="2154600" cy="1727640"/>
            </a:xfrm>
            <a:custGeom>
              <a:avLst/>
              <a:gdLst/>
              <a:ahLst/>
              <a:rect l="l" t="t" r="r" b="b"/>
              <a:pathLst>
                <a:path w="1988" h="1320">
                  <a:moveTo>
                    <a:pt x="12" y="812"/>
                  </a:moveTo>
                  <a:lnTo>
                    <a:pt x="0" y="1021"/>
                  </a:lnTo>
                  <a:lnTo>
                    <a:pt x="12" y="1224"/>
                  </a:lnTo>
                  <a:lnTo>
                    <a:pt x="25" y="1286"/>
                  </a:lnTo>
                  <a:cubicBezTo>
                    <a:pt x="309" y="1223"/>
                    <a:pt x="308" y="1320"/>
                    <a:pt x="308" y="1218"/>
                  </a:cubicBezTo>
                  <a:lnTo>
                    <a:pt x="658" y="1212"/>
                  </a:lnTo>
                  <a:lnTo>
                    <a:pt x="1034" y="1206"/>
                  </a:lnTo>
                  <a:cubicBezTo>
                    <a:pt x="1527" y="1174"/>
                    <a:pt x="1361" y="1175"/>
                    <a:pt x="1532" y="1175"/>
                  </a:cubicBezTo>
                  <a:lnTo>
                    <a:pt x="1951" y="1126"/>
                  </a:lnTo>
                  <a:lnTo>
                    <a:pt x="1969" y="437"/>
                  </a:lnTo>
                  <a:lnTo>
                    <a:pt x="1551" y="486"/>
                  </a:lnTo>
                  <a:lnTo>
                    <a:pt x="1963" y="338"/>
                  </a:lnTo>
                  <a:lnTo>
                    <a:pt x="1988" y="0"/>
                  </a:lnTo>
                  <a:lnTo>
                    <a:pt x="1637" y="49"/>
                  </a:lnTo>
                  <a:lnTo>
                    <a:pt x="1366" y="98"/>
                  </a:lnTo>
                  <a:lnTo>
                    <a:pt x="1126" y="228"/>
                  </a:lnTo>
                  <a:lnTo>
                    <a:pt x="843" y="412"/>
                  </a:lnTo>
                  <a:lnTo>
                    <a:pt x="708" y="548"/>
                  </a:lnTo>
                  <a:lnTo>
                    <a:pt x="462" y="634"/>
                  </a:lnTo>
                  <a:lnTo>
                    <a:pt x="246" y="664"/>
                  </a:lnTo>
                  <a:lnTo>
                    <a:pt x="105" y="689"/>
                  </a:lnTo>
                  <a:lnTo>
                    <a:pt x="12" y="812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36560" y="2997360"/>
            <a:ext cx="3868200" cy="3448080"/>
            <a:chOff x="736560" y="2997360"/>
            <a:chExt cx="3868200" cy="3448080"/>
          </a:xfrm>
        </p:grpSpPr>
        <p:grpSp>
          <p:nvGrpSpPr>
            <p:cNvPr id="128" name=""/>
            <p:cNvGrpSpPr/>
            <p:nvPr/>
          </p:nvGrpSpPr>
          <p:grpSpPr>
            <a:xfrm>
              <a:off x="736560" y="2997360"/>
              <a:ext cx="3868200" cy="2431440"/>
              <a:chOff x="736560" y="2997360"/>
              <a:chExt cx="3868200" cy="2431440"/>
            </a:xfrm>
          </p:grpSpPr>
          <p:sp>
            <p:nvSpPr>
              <p:cNvPr id="129" name=""/>
              <p:cNvSpPr/>
              <p:nvPr/>
            </p:nvSpPr>
            <p:spPr>
              <a:xfrm>
                <a:off x="736560" y="3198600"/>
                <a:ext cx="893160" cy="1820160"/>
              </a:xfrm>
              <a:custGeom>
                <a:avLst/>
                <a:gdLst/>
                <a:ahLst/>
                <a:rect l="l" t="t" r="r" b="b"/>
                <a:pathLst>
                  <a:path w="824" h="1391">
                    <a:moveTo>
                      <a:pt x="0" y="1391"/>
                    </a:moveTo>
                    <a:cubicBezTo>
                      <a:pt x="57" y="1383"/>
                      <a:pt x="114" y="1376"/>
                      <a:pt x="172" y="1348"/>
                    </a:cubicBezTo>
                    <a:cubicBezTo>
                      <a:pt x="230" y="1320"/>
                      <a:pt x="292" y="1280"/>
                      <a:pt x="351" y="1224"/>
                    </a:cubicBezTo>
                    <a:cubicBezTo>
                      <a:pt x="410" y="1168"/>
                      <a:pt x="489" y="1087"/>
                      <a:pt x="529" y="1009"/>
                    </a:cubicBezTo>
                    <a:cubicBezTo>
                      <a:pt x="569" y="931"/>
                      <a:pt x="567" y="837"/>
                      <a:pt x="591" y="757"/>
                    </a:cubicBezTo>
                    <a:cubicBezTo>
                      <a:pt x="615" y="677"/>
                      <a:pt x="649" y="613"/>
                      <a:pt x="671" y="529"/>
                    </a:cubicBezTo>
                    <a:cubicBezTo>
                      <a:pt x="693" y="445"/>
                      <a:pt x="712" y="324"/>
                      <a:pt x="726" y="252"/>
                    </a:cubicBezTo>
                    <a:cubicBezTo>
                      <a:pt x="740" y="180"/>
                      <a:pt x="741" y="140"/>
                      <a:pt x="757" y="98"/>
                    </a:cubicBezTo>
                    <a:cubicBezTo>
                      <a:pt x="773" y="56"/>
                      <a:pt x="798" y="28"/>
                      <a:pt x="824" y="0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40520" y="4044240"/>
                <a:ext cx="223200" cy="1384560"/>
              </a:xfrm>
              <a:custGeom>
                <a:avLst/>
                <a:gdLst/>
                <a:ahLst/>
                <a:rect l="l" t="t" r="r" b="b"/>
                <a:pathLst>
                  <a:path w="206" h="1058">
                    <a:moveTo>
                      <a:pt x="206" y="1058"/>
                    </a:moveTo>
                    <a:cubicBezTo>
                      <a:pt x="197" y="977"/>
                      <a:pt x="188" y="897"/>
                      <a:pt x="169" y="825"/>
                    </a:cubicBezTo>
                    <a:cubicBezTo>
                      <a:pt x="150" y="753"/>
                      <a:pt x="117" y="700"/>
                      <a:pt x="95" y="628"/>
                    </a:cubicBezTo>
                    <a:cubicBezTo>
                      <a:pt x="73" y="556"/>
                      <a:pt x="49" y="466"/>
                      <a:pt x="34" y="394"/>
                    </a:cubicBezTo>
                    <a:cubicBezTo>
                      <a:pt x="19" y="322"/>
                      <a:pt x="6" y="263"/>
                      <a:pt x="3" y="197"/>
                    </a:cubicBezTo>
                    <a:cubicBezTo>
                      <a:pt x="0" y="131"/>
                      <a:pt x="7" y="65"/>
                      <a:pt x="15" y="0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1910160" y="3078360"/>
                <a:ext cx="39960" cy="27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477160" y="4067640"/>
                <a:ext cx="33480" cy="628200"/>
              </a:xfrm>
              <a:custGeom>
                <a:avLst/>
                <a:gdLst/>
                <a:ahLst/>
                <a:rect l="l" t="t" r="r" b="b"/>
                <a:pathLst>
                  <a:path w="31" h="480">
                    <a:moveTo>
                      <a:pt x="0" y="0"/>
                    </a:moveTo>
                    <a:lnTo>
                      <a:pt x="0" y="173"/>
                    </a:lnTo>
                    <a:lnTo>
                      <a:pt x="0" y="327"/>
                    </a:lnTo>
                    <a:lnTo>
                      <a:pt x="0" y="425"/>
                    </a:lnTo>
                    <a:lnTo>
                      <a:pt x="31" y="480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2604240" y="3809880"/>
                <a:ext cx="166680" cy="57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38200" y="2997360"/>
                <a:ext cx="1366560" cy="708120"/>
              </a:xfrm>
              <a:custGeom>
                <a:avLst/>
                <a:gdLst/>
                <a:ahLst/>
                <a:rect l="l" t="t" r="r" b="b"/>
                <a:pathLst>
                  <a:path w="1261" h="541">
                    <a:moveTo>
                      <a:pt x="0" y="541"/>
                    </a:moveTo>
                    <a:lnTo>
                      <a:pt x="172" y="381"/>
                    </a:lnTo>
                    <a:lnTo>
                      <a:pt x="406" y="233"/>
                    </a:lnTo>
                    <a:lnTo>
                      <a:pt x="621" y="116"/>
                    </a:lnTo>
                    <a:lnTo>
                      <a:pt x="867" y="49"/>
                    </a:lnTo>
                    <a:lnTo>
                      <a:pt x="1261" y="0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829800" y="5864040"/>
              <a:ext cx="30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connectedness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1846080" y="5292720"/>
              <a:ext cx="185760" cy="70272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807080" y="3057480"/>
            <a:ext cx="5417640" cy="2007000"/>
            <a:chOff x="4807080" y="3057480"/>
            <a:chExt cx="5417640" cy="2007000"/>
          </a:xfrm>
        </p:grpSpPr>
        <p:sp>
          <p:nvSpPr>
            <p:cNvPr id="138" name=""/>
            <p:cNvSpPr/>
            <p:nvPr/>
          </p:nvSpPr>
          <p:spPr>
            <a:xfrm>
              <a:off x="4807080" y="3554280"/>
              <a:ext cx="1136520" cy="972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6116760" y="3057480"/>
              <a:ext cx="4107960" cy="2007000"/>
              <a:chOff x="6116760" y="3057480"/>
              <a:chExt cx="4107960" cy="2007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6116760" y="3057480"/>
                <a:ext cx="2377440" cy="1838160"/>
                <a:chOff x="6116760" y="3057480"/>
                <a:chExt cx="2377440" cy="18381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116760" y="4041720"/>
                  <a:ext cx="145800" cy="16344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835680" y="4732200"/>
                  <a:ext cx="145440" cy="163440"/>
                </a:xfrm>
                <a:prstGeom prst="ellipse">
                  <a:avLst/>
                </a:prstGeom>
                <a:solidFill>
                  <a:srgbClr val="ff00ff"/>
                </a:solidFill>
                <a:ln w="255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105320" y="3057480"/>
                  <a:ext cx="145800" cy="16344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246800" y="3649680"/>
                  <a:ext cx="145440" cy="163440"/>
                </a:xfrm>
                <a:prstGeom prst="ellipse">
                  <a:avLst/>
                </a:prstGeom>
                <a:solidFill>
                  <a:srgbClr val="ff151e"/>
                </a:solidFill>
                <a:ln w="25560">
                  <a:solidFill>
                    <a:srgbClr val="ff15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8348400" y="3832200"/>
                  <a:ext cx="145800" cy="163440"/>
                </a:xfrm>
                <a:prstGeom prst="ellipse">
                  <a:avLst/>
                </a:prstGeom>
                <a:solidFill>
                  <a:srgbClr val="00ff00"/>
                </a:solidFill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181560" y="3112920"/>
                  <a:ext cx="941040" cy="997200"/>
                </a:xfrm>
                <a:custGeom>
                  <a:avLst/>
                  <a:gdLst/>
                  <a:ahLst/>
                  <a:rect l="l" t="t" r="r" b="b"/>
                  <a:pathLst>
                    <a:path w="593" h="628">
                      <a:moveTo>
                        <a:pt x="8" y="628"/>
                      </a:moveTo>
                      <a:cubicBezTo>
                        <a:pt x="4" y="547"/>
                        <a:pt x="0" y="466"/>
                        <a:pt x="26" y="382"/>
                      </a:cubicBezTo>
                      <a:cubicBezTo>
                        <a:pt x="52" y="298"/>
                        <a:pt x="68" y="187"/>
                        <a:pt x="162" y="123"/>
                      </a:cubicBezTo>
                      <a:cubicBezTo>
                        <a:pt x="256" y="59"/>
                        <a:pt x="424" y="29"/>
                        <a:pt x="593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6252840" y="3777840"/>
                  <a:ext cx="985680" cy="322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405560" y="3719520"/>
                  <a:ext cx="956880" cy="164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252840" y="4197240"/>
                  <a:ext cx="595080" cy="538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6995880" y="3963600"/>
                  <a:ext cx="1406160" cy="839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259400" y="3060720"/>
                  <a:ext cx="1199880" cy="776160"/>
                </a:xfrm>
                <a:custGeom>
                  <a:avLst/>
                  <a:gdLst/>
                  <a:ahLst/>
                  <a:rect l="l" t="t" r="r" b="b"/>
                  <a:pathLst>
                    <a:path w="756" h="489">
                      <a:moveTo>
                        <a:pt x="0" y="45"/>
                      </a:moveTo>
                      <a:cubicBezTo>
                        <a:pt x="147" y="22"/>
                        <a:pt x="295" y="0"/>
                        <a:pt x="412" y="45"/>
                      </a:cubicBezTo>
                      <a:cubicBezTo>
                        <a:pt x="529" y="90"/>
                        <a:pt x="646" y="242"/>
                        <a:pt x="701" y="316"/>
                      </a:cubicBezTo>
                      <a:cubicBezTo>
                        <a:pt x="756" y="390"/>
                        <a:pt x="750" y="439"/>
                        <a:pt x="744" y="489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8253360" y="4360680"/>
                <a:ext cx="1971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connectedness</a:t>
                </a:r>
                <a:endParaRPr b="0" lang="en-US" sz="20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graph</a:t>
                </a:r>
                <a:endParaRPr b="0" lang="en-US" sz="20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74360" y="560520"/>
            <a:ext cx="8178840" cy="57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losed and opened position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846680" y="2063880"/>
            <a:ext cx="4597200" cy="3127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545000" cy="3138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270080" y="5686560"/>
            <a:ext cx="234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jaw close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"/>
          <p:cNvSpPr/>
          <p:nvPr/>
        </p:nvSpPr>
        <p:spPr>
          <a:xfrm>
            <a:off x="5670720" y="5664240"/>
            <a:ext cx="26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jaw opene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"/>
          <p:cNvSpPr/>
          <p:nvPr/>
        </p:nvSpPr>
        <p:spPr>
          <a:xfrm>
            <a:off x="3565440" y="6692760"/>
            <a:ext cx="5175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MDs: An Evidence Based-Approach to Diagnosis and Treatment.  (2006) Eds: D. M. Laskin, C. S. Greene, W. L. Hylander. Quintessence Books, Chicago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81000" y="423720"/>
            <a:ext cx="8707680" cy="85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onnectedness remains invariant in the opened and closed positio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"/>
          <p:cNvSpPr/>
          <p:nvPr/>
        </p:nvSpPr>
        <p:spPr>
          <a:xfrm>
            <a:off x="3297240" y="3278160"/>
            <a:ext cx="10922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NTERIO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06600" y="1366920"/>
            <a:ext cx="3908160" cy="3125520"/>
            <a:chOff x="606600" y="1366920"/>
            <a:chExt cx="3908160" cy="3125520"/>
          </a:xfrm>
        </p:grpSpPr>
        <p:sp>
          <p:nvSpPr>
            <p:cNvPr id="162" name=""/>
            <p:cNvSpPr/>
            <p:nvPr/>
          </p:nvSpPr>
          <p:spPr>
            <a:xfrm>
              <a:off x="625680" y="1366920"/>
              <a:ext cx="3881880" cy="2755440"/>
            </a:xfrm>
            <a:custGeom>
              <a:avLst/>
              <a:gdLst/>
              <a:ahLst/>
              <a:rect l="l" t="t" r="r" b="b"/>
              <a:pathLst>
                <a:path w="3582" h="2105">
                  <a:moveTo>
                    <a:pt x="0" y="2105"/>
                  </a:moveTo>
                  <a:lnTo>
                    <a:pt x="215" y="2025"/>
                  </a:lnTo>
                  <a:lnTo>
                    <a:pt x="369" y="1902"/>
                  </a:lnTo>
                  <a:lnTo>
                    <a:pt x="529" y="1711"/>
                  </a:lnTo>
                  <a:cubicBezTo>
                    <a:pt x="585" y="1488"/>
                    <a:pt x="509" y="1490"/>
                    <a:pt x="591" y="1490"/>
                  </a:cubicBezTo>
                  <a:lnTo>
                    <a:pt x="652" y="1219"/>
                  </a:lnTo>
                  <a:lnTo>
                    <a:pt x="708" y="936"/>
                  </a:lnTo>
                  <a:lnTo>
                    <a:pt x="831" y="653"/>
                  </a:lnTo>
                  <a:lnTo>
                    <a:pt x="942" y="560"/>
                  </a:lnTo>
                  <a:lnTo>
                    <a:pt x="1108" y="499"/>
                  </a:lnTo>
                  <a:lnTo>
                    <a:pt x="1274" y="523"/>
                  </a:lnTo>
                  <a:lnTo>
                    <a:pt x="1471" y="622"/>
                  </a:lnTo>
                  <a:lnTo>
                    <a:pt x="1618" y="751"/>
                  </a:lnTo>
                  <a:lnTo>
                    <a:pt x="1760" y="923"/>
                  </a:lnTo>
                  <a:lnTo>
                    <a:pt x="1926" y="1034"/>
                  </a:lnTo>
                  <a:lnTo>
                    <a:pt x="2043" y="1077"/>
                  </a:lnTo>
                  <a:lnTo>
                    <a:pt x="2283" y="1071"/>
                  </a:lnTo>
                  <a:lnTo>
                    <a:pt x="2486" y="899"/>
                  </a:lnTo>
                  <a:lnTo>
                    <a:pt x="2689" y="770"/>
                  </a:lnTo>
                  <a:lnTo>
                    <a:pt x="2942" y="653"/>
                  </a:lnTo>
                  <a:lnTo>
                    <a:pt x="3280" y="566"/>
                  </a:lnTo>
                  <a:lnTo>
                    <a:pt x="3538" y="530"/>
                  </a:lnTo>
                  <a:lnTo>
                    <a:pt x="3582" y="530"/>
                  </a:lnTo>
                  <a:lnTo>
                    <a:pt x="3563" y="123"/>
                  </a:lnTo>
                  <a:lnTo>
                    <a:pt x="3151" y="240"/>
                  </a:lnTo>
                  <a:lnTo>
                    <a:pt x="2738" y="363"/>
                  </a:lnTo>
                  <a:lnTo>
                    <a:pt x="2271" y="419"/>
                  </a:lnTo>
                  <a:lnTo>
                    <a:pt x="1908" y="437"/>
                  </a:lnTo>
                  <a:lnTo>
                    <a:pt x="1514" y="419"/>
                  </a:lnTo>
                  <a:lnTo>
                    <a:pt x="1157" y="370"/>
                  </a:lnTo>
                  <a:lnTo>
                    <a:pt x="818" y="277"/>
                  </a:lnTo>
                  <a:lnTo>
                    <a:pt x="591" y="160"/>
                  </a:lnTo>
                  <a:lnTo>
                    <a:pt x="406" y="19"/>
                  </a:lnTo>
                  <a:lnTo>
                    <a:pt x="18" y="0"/>
                  </a:lnTo>
                  <a:lnTo>
                    <a:pt x="0" y="2105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6600" y="2165040"/>
              <a:ext cx="1206000" cy="2327400"/>
            </a:xfrm>
            <a:custGeom>
              <a:avLst/>
              <a:gdLst/>
              <a:ahLst/>
              <a:rect l="l" t="t" r="r" b="b"/>
              <a:pathLst>
                <a:path w="1113" h="1778">
                  <a:moveTo>
                    <a:pt x="18" y="1501"/>
                  </a:moveTo>
                  <a:lnTo>
                    <a:pt x="221" y="1433"/>
                  </a:lnTo>
                  <a:lnTo>
                    <a:pt x="406" y="1292"/>
                  </a:lnTo>
                  <a:lnTo>
                    <a:pt x="566" y="1089"/>
                  </a:lnTo>
                  <a:lnTo>
                    <a:pt x="603" y="892"/>
                  </a:lnTo>
                  <a:lnTo>
                    <a:pt x="701" y="572"/>
                  </a:lnTo>
                  <a:lnTo>
                    <a:pt x="763" y="264"/>
                  </a:lnTo>
                  <a:lnTo>
                    <a:pt x="855" y="92"/>
                  </a:lnTo>
                  <a:lnTo>
                    <a:pt x="1015" y="0"/>
                  </a:lnTo>
                  <a:lnTo>
                    <a:pt x="1113" y="0"/>
                  </a:lnTo>
                  <a:lnTo>
                    <a:pt x="1089" y="160"/>
                  </a:lnTo>
                  <a:lnTo>
                    <a:pt x="1076" y="221"/>
                  </a:lnTo>
                  <a:lnTo>
                    <a:pt x="898" y="270"/>
                  </a:lnTo>
                  <a:lnTo>
                    <a:pt x="800" y="492"/>
                  </a:lnTo>
                  <a:lnTo>
                    <a:pt x="800" y="695"/>
                  </a:lnTo>
                  <a:lnTo>
                    <a:pt x="843" y="750"/>
                  </a:lnTo>
                  <a:lnTo>
                    <a:pt x="861" y="1015"/>
                  </a:lnTo>
                  <a:lnTo>
                    <a:pt x="910" y="1292"/>
                  </a:lnTo>
                  <a:lnTo>
                    <a:pt x="990" y="1538"/>
                  </a:lnTo>
                  <a:lnTo>
                    <a:pt x="1046" y="1716"/>
                  </a:lnTo>
                  <a:lnTo>
                    <a:pt x="1046" y="1778"/>
                  </a:lnTo>
                  <a:lnTo>
                    <a:pt x="0" y="1766"/>
                  </a:lnTo>
                  <a:lnTo>
                    <a:pt x="18" y="1501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26760" y="2510640"/>
              <a:ext cx="1140120" cy="1965960"/>
            </a:xfrm>
            <a:custGeom>
              <a:avLst/>
              <a:gdLst/>
              <a:ahLst/>
              <a:rect l="l" t="t" r="r" b="b"/>
              <a:pathLst>
                <a:path w="1052" h="1502">
                  <a:moveTo>
                    <a:pt x="209" y="1502"/>
                  </a:moveTo>
                  <a:cubicBezTo>
                    <a:pt x="209" y="1483"/>
                    <a:pt x="209" y="1464"/>
                    <a:pt x="209" y="1446"/>
                  </a:cubicBezTo>
                  <a:lnTo>
                    <a:pt x="111" y="1139"/>
                  </a:lnTo>
                  <a:lnTo>
                    <a:pt x="37" y="856"/>
                  </a:lnTo>
                  <a:lnTo>
                    <a:pt x="0" y="486"/>
                  </a:lnTo>
                  <a:lnTo>
                    <a:pt x="12" y="265"/>
                  </a:lnTo>
                  <a:lnTo>
                    <a:pt x="111" y="92"/>
                  </a:lnTo>
                  <a:lnTo>
                    <a:pt x="197" y="19"/>
                  </a:lnTo>
                  <a:lnTo>
                    <a:pt x="381" y="0"/>
                  </a:lnTo>
                  <a:lnTo>
                    <a:pt x="523" y="37"/>
                  </a:lnTo>
                  <a:lnTo>
                    <a:pt x="689" y="142"/>
                  </a:lnTo>
                  <a:lnTo>
                    <a:pt x="769" y="283"/>
                  </a:lnTo>
                  <a:lnTo>
                    <a:pt x="769" y="431"/>
                  </a:lnTo>
                  <a:lnTo>
                    <a:pt x="751" y="622"/>
                  </a:lnTo>
                  <a:lnTo>
                    <a:pt x="751" y="782"/>
                  </a:lnTo>
                  <a:lnTo>
                    <a:pt x="763" y="905"/>
                  </a:lnTo>
                  <a:lnTo>
                    <a:pt x="837" y="1102"/>
                  </a:lnTo>
                  <a:lnTo>
                    <a:pt x="941" y="1311"/>
                  </a:lnTo>
                  <a:lnTo>
                    <a:pt x="1052" y="1496"/>
                  </a:lnTo>
                  <a:lnTo>
                    <a:pt x="209" y="1502"/>
                  </a:lnTo>
                  <a:close/>
                </a:path>
              </a:pathLst>
            </a:custGeom>
            <a:solidFill>
              <a:srgbClr val="ff00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86680" y="2098440"/>
              <a:ext cx="839880" cy="823320"/>
            </a:xfrm>
            <a:custGeom>
              <a:avLst/>
              <a:gdLst/>
              <a:ahLst/>
              <a:rect l="l" t="t" r="r" b="b"/>
              <a:pathLst>
                <a:path w="775" h="629">
                  <a:moveTo>
                    <a:pt x="49" y="51"/>
                  </a:moveTo>
                  <a:cubicBezTo>
                    <a:pt x="142" y="0"/>
                    <a:pt x="106" y="1"/>
                    <a:pt x="147" y="1"/>
                  </a:cubicBezTo>
                  <a:lnTo>
                    <a:pt x="283" y="26"/>
                  </a:lnTo>
                  <a:lnTo>
                    <a:pt x="375" y="124"/>
                  </a:lnTo>
                  <a:lnTo>
                    <a:pt x="486" y="223"/>
                  </a:lnTo>
                  <a:lnTo>
                    <a:pt x="597" y="334"/>
                  </a:lnTo>
                  <a:lnTo>
                    <a:pt x="701" y="426"/>
                  </a:lnTo>
                  <a:lnTo>
                    <a:pt x="763" y="512"/>
                  </a:lnTo>
                  <a:lnTo>
                    <a:pt x="775" y="586"/>
                  </a:lnTo>
                  <a:lnTo>
                    <a:pt x="726" y="629"/>
                  </a:lnTo>
                  <a:lnTo>
                    <a:pt x="646" y="629"/>
                  </a:lnTo>
                  <a:lnTo>
                    <a:pt x="578" y="604"/>
                  </a:lnTo>
                  <a:lnTo>
                    <a:pt x="523" y="469"/>
                  </a:lnTo>
                  <a:lnTo>
                    <a:pt x="461" y="383"/>
                  </a:lnTo>
                  <a:lnTo>
                    <a:pt x="357" y="303"/>
                  </a:lnTo>
                  <a:lnTo>
                    <a:pt x="227" y="303"/>
                  </a:lnTo>
                  <a:lnTo>
                    <a:pt x="86" y="266"/>
                  </a:lnTo>
                  <a:lnTo>
                    <a:pt x="0" y="260"/>
                  </a:lnTo>
                  <a:lnTo>
                    <a:pt x="49" y="51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60160" y="2052720"/>
              <a:ext cx="2154600" cy="1727640"/>
            </a:xfrm>
            <a:custGeom>
              <a:avLst/>
              <a:gdLst/>
              <a:ahLst/>
              <a:rect l="l" t="t" r="r" b="b"/>
              <a:pathLst>
                <a:path w="1988" h="1320">
                  <a:moveTo>
                    <a:pt x="12" y="812"/>
                  </a:moveTo>
                  <a:lnTo>
                    <a:pt x="0" y="1021"/>
                  </a:lnTo>
                  <a:lnTo>
                    <a:pt x="12" y="1224"/>
                  </a:lnTo>
                  <a:lnTo>
                    <a:pt x="25" y="1286"/>
                  </a:lnTo>
                  <a:cubicBezTo>
                    <a:pt x="309" y="1223"/>
                    <a:pt x="308" y="1320"/>
                    <a:pt x="308" y="1218"/>
                  </a:cubicBezTo>
                  <a:lnTo>
                    <a:pt x="658" y="1212"/>
                  </a:lnTo>
                  <a:lnTo>
                    <a:pt x="1034" y="1206"/>
                  </a:lnTo>
                  <a:cubicBezTo>
                    <a:pt x="1527" y="1174"/>
                    <a:pt x="1361" y="1175"/>
                    <a:pt x="1532" y="1175"/>
                  </a:cubicBezTo>
                  <a:lnTo>
                    <a:pt x="1951" y="1126"/>
                  </a:lnTo>
                  <a:lnTo>
                    <a:pt x="1969" y="437"/>
                  </a:lnTo>
                  <a:lnTo>
                    <a:pt x="1551" y="486"/>
                  </a:lnTo>
                  <a:lnTo>
                    <a:pt x="1963" y="338"/>
                  </a:lnTo>
                  <a:lnTo>
                    <a:pt x="1988" y="0"/>
                  </a:lnTo>
                  <a:lnTo>
                    <a:pt x="1637" y="49"/>
                  </a:lnTo>
                  <a:lnTo>
                    <a:pt x="1366" y="98"/>
                  </a:lnTo>
                  <a:lnTo>
                    <a:pt x="1126" y="228"/>
                  </a:lnTo>
                  <a:lnTo>
                    <a:pt x="843" y="412"/>
                  </a:lnTo>
                  <a:lnTo>
                    <a:pt x="708" y="548"/>
                  </a:lnTo>
                  <a:lnTo>
                    <a:pt x="462" y="634"/>
                  </a:lnTo>
                  <a:lnTo>
                    <a:pt x="246" y="664"/>
                  </a:lnTo>
                  <a:lnTo>
                    <a:pt x="105" y="689"/>
                  </a:lnTo>
                  <a:lnTo>
                    <a:pt x="12" y="812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873760" y="1531800"/>
            <a:ext cx="3703680" cy="2684160"/>
            <a:chOff x="5873760" y="1531800"/>
            <a:chExt cx="3703680" cy="2684160"/>
          </a:xfrm>
        </p:grpSpPr>
        <p:grpSp>
          <p:nvGrpSpPr>
            <p:cNvPr id="168" name=""/>
            <p:cNvGrpSpPr/>
            <p:nvPr/>
          </p:nvGrpSpPr>
          <p:grpSpPr>
            <a:xfrm>
              <a:off x="5873760" y="1531800"/>
              <a:ext cx="3703680" cy="2684160"/>
              <a:chOff x="5873760" y="1531800"/>
              <a:chExt cx="3703680" cy="268416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5873760" y="1531800"/>
                <a:ext cx="3703680" cy="2684160"/>
                <a:chOff x="5873760" y="1531800"/>
                <a:chExt cx="3703680" cy="26841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5873760" y="1531800"/>
                  <a:ext cx="3703680" cy="2170800"/>
                </a:xfrm>
                <a:custGeom>
                  <a:avLst/>
                  <a:gdLst/>
                  <a:ahLst/>
                  <a:rect l="l" t="t" r="r" b="b"/>
                  <a:pathLst>
                    <a:path w="3292" h="1772">
                      <a:moveTo>
                        <a:pt x="6" y="1772"/>
                      </a:moveTo>
                      <a:lnTo>
                        <a:pt x="190" y="1686"/>
                      </a:lnTo>
                      <a:lnTo>
                        <a:pt x="338" y="1581"/>
                      </a:lnTo>
                      <a:lnTo>
                        <a:pt x="498" y="1397"/>
                      </a:lnTo>
                      <a:lnTo>
                        <a:pt x="560" y="1200"/>
                      </a:lnTo>
                      <a:cubicBezTo>
                        <a:pt x="609" y="964"/>
                        <a:pt x="609" y="1045"/>
                        <a:pt x="609" y="960"/>
                      </a:cubicBezTo>
                      <a:lnTo>
                        <a:pt x="658" y="738"/>
                      </a:lnTo>
                      <a:lnTo>
                        <a:pt x="701" y="523"/>
                      </a:lnTo>
                      <a:lnTo>
                        <a:pt x="824" y="375"/>
                      </a:lnTo>
                      <a:lnTo>
                        <a:pt x="978" y="295"/>
                      </a:lnTo>
                      <a:lnTo>
                        <a:pt x="1132" y="289"/>
                      </a:lnTo>
                      <a:lnTo>
                        <a:pt x="1280" y="363"/>
                      </a:lnTo>
                      <a:lnTo>
                        <a:pt x="1476" y="511"/>
                      </a:lnTo>
                      <a:lnTo>
                        <a:pt x="1612" y="652"/>
                      </a:lnTo>
                      <a:lnTo>
                        <a:pt x="1760" y="757"/>
                      </a:lnTo>
                      <a:lnTo>
                        <a:pt x="1932" y="812"/>
                      </a:lnTo>
                      <a:lnTo>
                        <a:pt x="2116" y="806"/>
                      </a:lnTo>
                      <a:lnTo>
                        <a:pt x="2295" y="671"/>
                      </a:lnTo>
                      <a:lnTo>
                        <a:pt x="2443" y="541"/>
                      </a:lnTo>
                      <a:lnTo>
                        <a:pt x="2560" y="486"/>
                      </a:lnTo>
                      <a:lnTo>
                        <a:pt x="2800" y="406"/>
                      </a:lnTo>
                      <a:lnTo>
                        <a:pt x="3070" y="363"/>
                      </a:lnTo>
                      <a:lnTo>
                        <a:pt x="3273" y="320"/>
                      </a:lnTo>
                      <a:lnTo>
                        <a:pt x="3292" y="6"/>
                      </a:lnTo>
                      <a:lnTo>
                        <a:pt x="3058" y="6"/>
                      </a:lnTo>
                      <a:lnTo>
                        <a:pt x="2473" y="166"/>
                      </a:lnTo>
                      <a:lnTo>
                        <a:pt x="2030" y="221"/>
                      </a:lnTo>
                      <a:lnTo>
                        <a:pt x="1544" y="227"/>
                      </a:lnTo>
                      <a:lnTo>
                        <a:pt x="1101" y="191"/>
                      </a:lnTo>
                      <a:cubicBezTo>
                        <a:pt x="638" y="5"/>
                        <a:pt x="640" y="171"/>
                        <a:pt x="640" y="0"/>
                      </a:cubicBezTo>
                      <a:lnTo>
                        <a:pt x="0" y="18"/>
                      </a:lnTo>
                      <a:lnTo>
                        <a:pt x="6" y="17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63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880240" y="2413800"/>
                  <a:ext cx="1723680" cy="1802160"/>
                </a:xfrm>
                <a:custGeom>
                  <a:avLst/>
                  <a:gdLst/>
                  <a:ahLst/>
                  <a:rect l="l" t="t" r="r" b="b"/>
                  <a:pathLst>
                    <a:path w="1532" h="1471">
                      <a:moveTo>
                        <a:pt x="0" y="1046"/>
                      </a:moveTo>
                      <a:lnTo>
                        <a:pt x="252" y="941"/>
                      </a:lnTo>
                      <a:lnTo>
                        <a:pt x="492" y="701"/>
                      </a:lnTo>
                      <a:lnTo>
                        <a:pt x="578" y="406"/>
                      </a:lnTo>
                      <a:lnTo>
                        <a:pt x="670" y="6"/>
                      </a:lnTo>
                      <a:lnTo>
                        <a:pt x="1532" y="0"/>
                      </a:lnTo>
                      <a:lnTo>
                        <a:pt x="1489" y="135"/>
                      </a:lnTo>
                      <a:lnTo>
                        <a:pt x="1501" y="289"/>
                      </a:lnTo>
                      <a:lnTo>
                        <a:pt x="1452" y="437"/>
                      </a:lnTo>
                      <a:lnTo>
                        <a:pt x="1384" y="634"/>
                      </a:lnTo>
                      <a:lnTo>
                        <a:pt x="1360" y="911"/>
                      </a:lnTo>
                      <a:lnTo>
                        <a:pt x="1378" y="1040"/>
                      </a:lnTo>
                      <a:lnTo>
                        <a:pt x="1427" y="1107"/>
                      </a:lnTo>
                      <a:lnTo>
                        <a:pt x="1390" y="1446"/>
                      </a:lnTo>
                      <a:lnTo>
                        <a:pt x="6" y="1471"/>
                      </a:lnTo>
                      <a:lnTo>
                        <a:pt x="0" y="104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3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458840" y="2737080"/>
                  <a:ext cx="975240" cy="1455480"/>
                </a:xfrm>
                <a:custGeom>
                  <a:avLst/>
                  <a:gdLst/>
                  <a:ahLst/>
                  <a:rect l="l" t="t" r="r" b="b"/>
                  <a:pathLst>
                    <a:path w="867" h="1188">
                      <a:moveTo>
                        <a:pt x="0" y="1188"/>
                      </a:moveTo>
                      <a:lnTo>
                        <a:pt x="43" y="813"/>
                      </a:lnTo>
                      <a:lnTo>
                        <a:pt x="49" y="523"/>
                      </a:lnTo>
                      <a:lnTo>
                        <a:pt x="141" y="259"/>
                      </a:lnTo>
                      <a:lnTo>
                        <a:pt x="289" y="62"/>
                      </a:lnTo>
                      <a:lnTo>
                        <a:pt x="363" y="13"/>
                      </a:lnTo>
                      <a:lnTo>
                        <a:pt x="504" y="0"/>
                      </a:lnTo>
                      <a:lnTo>
                        <a:pt x="658" y="37"/>
                      </a:lnTo>
                      <a:lnTo>
                        <a:pt x="763" y="154"/>
                      </a:lnTo>
                      <a:lnTo>
                        <a:pt x="831" y="271"/>
                      </a:lnTo>
                      <a:cubicBezTo>
                        <a:pt x="867" y="475"/>
                        <a:pt x="867" y="542"/>
                        <a:pt x="867" y="468"/>
                      </a:cubicBezTo>
                      <a:lnTo>
                        <a:pt x="787" y="585"/>
                      </a:lnTo>
                      <a:lnTo>
                        <a:pt x="664" y="665"/>
                      </a:lnTo>
                      <a:lnTo>
                        <a:pt x="523" y="862"/>
                      </a:lnTo>
                      <a:lnTo>
                        <a:pt x="467" y="1047"/>
                      </a:lnTo>
                      <a:lnTo>
                        <a:pt x="455" y="1182"/>
                      </a:lnTo>
                      <a:lnTo>
                        <a:pt x="0" y="1188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633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005320" y="1953000"/>
                  <a:ext cx="1564920" cy="2058480"/>
                </a:xfrm>
                <a:custGeom>
                  <a:avLst/>
                  <a:gdLst/>
                  <a:ahLst/>
                  <a:rect l="l" t="t" r="r" b="b"/>
                  <a:pathLst>
                    <a:path w="1391" h="1680">
                      <a:moveTo>
                        <a:pt x="0" y="1680"/>
                      </a:moveTo>
                      <a:lnTo>
                        <a:pt x="381" y="1600"/>
                      </a:lnTo>
                      <a:lnTo>
                        <a:pt x="868" y="1483"/>
                      </a:lnTo>
                      <a:lnTo>
                        <a:pt x="1372" y="1262"/>
                      </a:lnTo>
                      <a:lnTo>
                        <a:pt x="1378" y="530"/>
                      </a:lnTo>
                      <a:lnTo>
                        <a:pt x="997" y="819"/>
                      </a:lnTo>
                      <a:lnTo>
                        <a:pt x="1391" y="450"/>
                      </a:lnTo>
                      <a:lnTo>
                        <a:pt x="1391" y="0"/>
                      </a:lnTo>
                      <a:lnTo>
                        <a:pt x="714" y="142"/>
                      </a:lnTo>
                      <a:lnTo>
                        <a:pt x="751" y="234"/>
                      </a:lnTo>
                      <a:lnTo>
                        <a:pt x="548" y="308"/>
                      </a:lnTo>
                      <a:lnTo>
                        <a:pt x="615" y="400"/>
                      </a:lnTo>
                      <a:lnTo>
                        <a:pt x="486" y="468"/>
                      </a:lnTo>
                      <a:lnTo>
                        <a:pt x="449" y="696"/>
                      </a:lnTo>
                      <a:lnTo>
                        <a:pt x="437" y="757"/>
                      </a:lnTo>
                      <a:lnTo>
                        <a:pt x="418" y="1040"/>
                      </a:lnTo>
                      <a:lnTo>
                        <a:pt x="381" y="1114"/>
                      </a:lnTo>
                      <a:lnTo>
                        <a:pt x="240" y="1293"/>
                      </a:lnTo>
                      <a:lnTo>
                        <a:pt x="178" y="1330"/>
                      </a:lnTo>
                      <a:lnTo>
                        <a:pt x="61" y="1496"/>
                      </a:lnTo>
                      <a:lnTo>
                        <a:pt x="0" y="168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6336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62160" y="2421360"/>
                  <a:ext cx="969480" cy="429840"/>
                </a:xfrm>
                <a:custGeom>
                  <a:avLst/>
                  <a:gdLst/>
                  <a:ahLst/>
                  <a:rect l="l" t="t" r="r" b="b"/>
                  <a:pathLst>
                    <a:path w="862" h="351">
                      <a:moveTo>
                        <a:pt x="55" y="18"/>
                      </a:moveTo>
                      <a:lnTo>
                        <a:pt x="0" y="166"/>
                      </a:lnTo>
                      <a:lnTo>
                        <a:pt x="19" y="289"/>
                      </a:lnTo>
                      <a:lnTo>
                        <a:pt x="80" y="326"/>
                      </a:lnTo>
                      <a:lnTo>
                        <a:pt x="222" y="283"/>
                      </a:lnTo>
                      <a:lnTo>
                        <a:pt x="351" y="258"/>
                      </a:lnTo>
                      <a:lnTo>
                        <a:pt x="517" y="258"/>
                      </a:lnTo>
                      <a:lnTo>
                        <a:pt x="634" y="314"/>
                      </a:lnTo>
                      <a:lnTo>
                        <a:pt x="837" y="351"/>
                      </a:lnTo>
                      <a:lnTo>
                        <a:pt x="862" y="129"/>
                      </a:lnTo>
                      <a:lnTo>
                        <a:pt x="775" y="74"/>
                      </a:lnTo>
                      <a:lnTo>
                        <a:pt x="652" y="86"/>
                      </a:lnTo>
                      <a:lnTo>
                        <a:pt x="468" y="111"/>
                      </a:lnTo>
                      <a:lnTo>
                        <a:pt x="357" y="105"/>
                      </a:lnTo>
                      <a:lnTo>
                        <a:pt x="203" y="31"/>
                      </a:lnTo>
                      <a:lnTo>
                        <a:pt x="160" y="0"/>
                      </a:lnTo>
                      <a:lnTo>
                        <a:pt x="55" y="18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63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5880240" y="2390400"/>
                <a:ext cx="753840" cy="1290240"/>
              </a:xfrm>
              <a:custGeom>
                <a:avLst/>
                <a:gdLst/>
                <a:ahLst/>
                <a:rect l="l" t="t" r="r" b="b"/>
                <a:pathLst>
                  <a:path w="670" h="1053">
                    <a:moveTo>
                      <a:pt x="0" y="1053"/>
                    </a:moveTo>
                    <a:lnTo>
                      <a:pt x="240" y="954"/>
                    </a:lnTo>
                    <a:lnTo>
                      <a:pt x="486" y="708"/>
                    </a:lnTo>
                    <a:lnTo>
                      <a:pt x="670" y="0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7437240" y="3762720"/>
                <a:ext cx="56160" cy="4298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569000" y="2428560"/>
                <a:ext cx="48240" cy="354240"/>
              </a:xfrm>
              <a:custGeom>
                <a:avLst/>
                <a:gdLst/>
                <a:ahLst/>
                <a:rect l="l" t="t" r="r" b="b"/>
                <a:pathLst>
                  <a:path w="43" h="289">
                    <a:moveTo>
                      <a:pt x="43" y="0"/>
                    </a:moveTo>
                    <a:lnTo>
                      <a:pt x="0" y="142"/>
                    </a:lnTo>
                    <a:lnTo>
                      <a:pt x="0" y="289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8510400" y="2564640"/>
                <a:ext cx="27720" cy="3157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808840" y="1945800"/>
                <a:ext cx="761400" cy="166320"/>
              </a:xfrm>
              <a:custGeom>
                <a:avLst/>
                <a:gdLst/>
                <a:ahLst/>
                <a:rect l="l" t="t" r="r" b="b"/>
                <a:pathLst>
                  <a:path w="677" h="136">
                    <a:moveTo>
                      <a:pt x="0" y="136"/>
                    </a:moveTo>
                    <a:lnTo>
                      <a:pt x="344" y="56"/>
                    </a:lnTo>
                    <a:lnTo>
                      <a:pt x="677" y="0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7992000" y="3303360"/>
              <a:ext cx="442080" cy="716400"/>
            </a:xfrm>
            <a:custGeom>
              <a:avLst/>
              <a:gdLst/>
              <a:ahLst/>
              <a:rect l="l" t="t" r="r" b="b"/>
              <a:pathLst>
                <a:path w="393" h="585">
                  <a:moveTo>
                    <a:pt x="0" y="585"/>
                  </a:moveTo>
                  <a:lnTo>
                    <a:pt x="61" y="388"/>
                  </a:lnTo>
                  <a:lnTo>
                    <a:pt x="215" y="197"/>
                  </a:lnTo>
                  <a:lnTo>
                    <a:pt x="277" y="166"/>
                  </a:lnTo>
                  <a:lnTo>
                    <a:pt x="393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619200" y="2060640"/>
            <a:ext cx="3868200" cy="3448080"/>
            <a:chOff x="619200" y="2060640"/>
            <a:chExt cx="3868200" cy="3448080"/>
          </a:xfrm>
        </p:grpSpPr>
        <p:grpSp>
          <p:nvGrpSpPr>
            <p:cNvPr id="182" name=""/>
            <p:cNvGrpSpPr/>
            <p:nvPr/>
          </p:nvGrpSpPr>
          <p:grpSpPr>
            <a:xfrm>
              <a:off x="619200" y="2060640"/>
              <a:ext cx="3868200" cy="2431440"/>
              <a:chOff x="619200" y="2060640"/>
              <a:chExt cx="3868200" cy="2431440"/>
            </a:xfrm>
          </p:grpSpPr>
          <p:sp>
            <p:nvSpPr>
              <p:cNvPr id="183" name=""/>
              <p:cNvSpPr/>
              <p:nvPr/>
            </p:nvSpPr>
            <p:spPr>
              <a:xfrm>
                <a:off x="619200" y="2261880"/>
                <a:ext cx="893160" cy="1820160"/>
              </a:xfrm>
              <a:custGeom>
                <a:avLst/>
                <a:gdLst/>
                <a:ahLst/>
                <a:rect l="l" t="t" r="r" b="b"/>
                <a:pathLst>
                  <a:path w="824" h="1391">
                    <a:moveTo>
                      <a:pt x="0" y="1391"/>
                    </a:moveTo>
                    <a:cubicBezTo>
                      <a:pt x="57" y="1383"/>
                      <a:pt x="114" y="1376"/>
                      <a:pt x="172" y="1348"/>
                    </a:cubicBezTo>
                    <a:cubicBezTo>
                      <a:pt x="230" y="1320"/>
                      <a:pt x="292" y="1280"/>
                      <a:pt x="351" y="1224"/>
                    </a:cubicBezTo>
                    <a:cubicBezTo>
                      <a:pt x="410" y="1168"/>
                      <a:pt x="489" y="1087"/>
                      <a:pt x="529" y="1009"/>
                    </a:cubicBezTo>
                    <a:cubicBezTo>
                      <a:pt x="569" y="931"/>
                      <a:pt x="567" y="837"/>
                      <a:pt x="591" y="757"/>
                    </a:cubicBezTo>
                    <a:cubicBezTo>
                      <a:pt x="615" y="677"/>
                      <a:pt x="649" y="613"/>
                      <a:pt x="671" y="529"/>
                    </a:cubicBezTo>
                    <a:cubicBezTo>
                      <a:pt x="693" y="445"/>
                      <a:pt x="712" y="324"/>
                      <a:pt x="726" y="252"/>
                    </a:cubicBezTo>
                    <a:cubicBezTo>
                      <a:pt x="740" y="180"/>
                      <a:pt x="741" y="140"/>
                      <a:pt x="757" y="98"/>
                    </a:cubicBezTo>
                    <a:cubicBezTo>
                      <a:pt x="773" y="56"/>
                      <a:pt x="798" y="28"/>
                      <a:pt x="824" y="0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523160" y="3107520"/>
                <a:ext cx="223200" cy="1384560"/>
              </a:xfrm>
              <a:custGeom>
                <a:avLst/>
                <a:gdLst/>
                <a:ahLst/>
                <a:rect l="l" t="t" r="r" b="b"/>
                <a:pathLst>
                  <a:path w="206" h="1058">
                    <a:moveTo>
                      <a:pt x="206" y="1058"/>
                    </a:moveTo>
                    <a:cubicBezTo>
                      <a:pt x="197" y="977"/>
                      <a:pt x="188" y="897"/>
                      <a:pt x="169" y="825"/>
                    </a:cubicBezTo>
                    <a:cubicBezTo>
                      <a:pt x="150" y="753"/>
                      <a:pt x="117" y="700"/>
                      <a:pt x="95" y="628"/>
                    </a:cubicBezTo>
                    <a:cubicBezTo>
                      <a:pt x="73" y="556"/>
                      <a:pt x="49" y="466"/>
                      <a:pt x="34" y="394"/>
                    </a:cubicBezTo>
                    <a:cubicBezTo>
                      <a:pt x="19" y="322"/>
                      <a:pt x="6" y="263"/>
                      <a:pt x="3" y="197"/>
                    </a:cubicBezTo>
                    <a:cubicBezTo>
                      <a:pt x="0" y="131"/>
                      <a:pt x="7" y="65"/>
                      <a:pt x="15" y="0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1792800" y="2141640"/>
                <a:ext cx="39960" cy="27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359800" y="3130920"/>
                <a:ext cx="33480" cy="628200"/>
              </a:xfrm>
              <a:custGeom>
                <a:avLst/>
                <a:gdLst/>
                <a:ahLst/>
                <a:rect l="l" t="t" r="r" b="b"/>
                <a:pathLst>
                  <a:path w="31" h="480">
                    <a:moveTo>
                      <a:pt x="0" y="0"/>
                    </a:moveTo>
                    <a:lnTo>
                      <a:pt x="0" y="173"/>
                    </a:lnTo>
                    <a:lnTo>
                      <a:pt x="0" y="327"/>
                    </a:lnTo>
                    <a:lnTo>
                      <a:pt x="0" y="425"/>
                    </a:lnTo>
                    <a:lnTo>
                      <a:pt x="31" y="480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2486880" y="2873160"/>
                <a:ext cx="166680" cy="57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120840" y="2060640"/>
                <a:ext cx="1366560" cy="708120"/>
              </a:xfrm>
              <a:custGeom>
                <a:avLst/>
                <a:gdLst/>
                <a:ahLst/>
                <a:rect l="l" t="t" r="r" b="b"/>
                <a:pathLst>
                  <a:path w="1261" h="541">
                    <a:moveTo>
                      <a:pt x="0" y="541"/>
                    </a:moveTo>
                    <a:lnTo>
                      <a:pt x="172" y="381"/>
                    </a:lnTo>
                    <a:lnTo>
                      <a:pt x="406" y="233"/>
                    </a:lnTo>
                    <a:lnTo>
                      <a:pt x="621" y="116"/>
                    </a:lnTo>
                    <a:lnTo>
                      <a:pt x="867" y="49"/>
                    </a:lnTo>
                    <a:lnTo>
                      <a:pt x="1261" y="0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712440" y="4927320"/>
              <a:ext cx="30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connectedness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1728720" y="4356000"/>
              <a:ext cx="185760" cy="70272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760920" y="4024440"/>
            <a:ext cx="4790160" cy="3327840"/>
            <a:chOff x="3760920" y="4024440"/>
            <a:chExt cx="4790160" cy="3327840"/>
          </a:xfrm>
        </p:grpSpPr>
        <p:grpSp>
          <p:nvGrpSpPr>
            <p:cNvPr id="192" name=""/>
            <p:cNvGrpSpPr/>
            <p:nvPr/>
          </p:nvGrpSpPr>
          <p:grpSpPr>
            <a:xfrm>
              <a:off x="3760920" y="4024440"/>
              <a:ext cx="3932280" cy="3159000"/>
              <a:chOff x="3760920" y="4024440"/>
              <a:chExt cx="3932280" cy="315900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4387680" y="5345280"/>
                <a:ext cx="2378160" cy="1838160"/>
                <a:chOff x="4387680" y="5345280"/>
                <a:chExt cx="2378160" cy="18381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387680" y="6329520"/>
                  <a:ext cx="146160" cy="16344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106960" y="7020000"/>
                  <a:ext cx="145800" cy="163440"/>
                </a:xfrm>
                <a:prstGeom prst="ellipse">
                  <a:avLst/>
                </a:prstGeom>
                <a:solidFill>
                  <a:srgbClr val="ff00ff"/>
                </a:solidFill>
                <a:ln w="255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376600" y="5345280"/>
                  <a:ext cx="146160" cy="16344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518080" y="5937480"/>
                  <a:ext cx="145800" cy="163440"/>
                </a:xfrm>
                <a:prstGeom prst="ellipse">
                  <a:avLst/>
                </a:prstGeom>
                <a:solidFill>
                  <a:srgbClr val="ff151e"/>
                </a:solidFill>
                <a:ln w="25560">
                  <a:solidFill>
                    <a:srgbClr val="ff15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619680" y="6120000"/>
                  <a:ext cx="146160" cy="163440"/>
                </a:xfrm>
                <a:prstGeom prst="ellipse">
                  <a:avLst/>
                </a:prstGeom>
                <a:solidFill>
                  <a:srgbClr val="00ff00"/>
                </a:solidFill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452840" y="5400720"/>
                  <a:ext cx="941400" cy="997200"/>
                </a:xfrm>
                <a:custGeom>
                  <a:avLst/>
                  <a:gdLst/>
                  <a:ahLst/>
                  <a:rect l="l" t="t" r="r" b="b"/>
                  <a:pathLst>
                    <a:path w="593" h="628">
                      <a:moveTo>
                        <a:pt x="8" y="628"/>
                      </a:moveTo>
                      <a:cubicBezTo>
                        <a:pt x="4" y="547"/>
                        <a:pt x="0" y="466"/>
                        <a:pt x="26" y="382"/>
                      </a:cubicBezTo>
                      <a:cubicBezTo>
                        <a:pt x="52" y="298"/>
                        <a:pt x="68" y="187"/>
                        <a:pt x="162" y="123"/>
                      </a:cubicBezTo>
                      <a:cubicBezTo>
                        <a:pt x="256" y="59"/>
                        <a:pt x="424" y="29"/>
                        <a:pt x="593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V="1">
                  <a:off x="4524120" y="6065640"/>
                  <a:ext cx="986040" cy="322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676840" y="6007320"/>
                  <a:ext cx="957240" cy="164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524120" y="6485040"/>
                  <a:ext cx="595440" cy="538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5267160" y="6251400"/>
                  <a:ext cx="1406520" cy="839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530680" y="5348520"/>
                  <a:ext cx="1200240" cy="776160"/>
                </a:xfrm>
                <a:custGeom>
                  <a:avLst/>
                  <a:gdLst/>
                  <a:ahLst/>
                  <a:rect l="l" t="t" r="r" b="b"/>
                  <a:pathLst>
                    <a:path w="756" h="489">
                      <a:moveTo>
                        <a:pt x="0" y="45"/>
                      </a:moveTo>
                      <a:cubicBezTo>
                        <a:pt x="147" y="22"/>
                        <a:pt x="295" y="0"/>
                        <a:pt x="412" y="45"/>
                      </a:cubicBezTo>
                      <a:cubicBezTo>
                        <a:pt x="529" y="90"/>
                        <a:pt x="646" y="242"/>
                        <a:pt x="701" y="316"/>
                      </a:cubicBezTo>
                      <a:cubicBezTo>
                        <a:pt x="756" y="390"/>
                        <a:pt x="750" y="439"/>
                        <a:pt x="744" y="489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760920" y="4024440"/>
                <a:ext cx="1125360" cy="117144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6492960" y="4314960"/>
                <a:ext cx="1200240" cy="90792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6540120" y="6648480"/>
              <a:ext cx="2010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Connectednes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grap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22000" y="942840"/>
            <a:ext cx="8707320" cy="219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Every TMJ can be represented by this connectedness graph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254400" y="3610080"/>
            <a:ext cx="4569480" cy="2247840"/>
            <a:chOff x="3254400" y="3610080"/>
            <a:chExt cx="4569480" cy="2247840"/>
          </a:xfrm>
        </p:grpSpPr>
        <p:grpSp>
          <p:nvGrpSpPr>
            <p:cNvPr id="210" name=""/>
            <p:cNvGrpSpPr/>
            <p:nvPr/>
          </p:nvGrpSpPr>
          <p:grpSpPr>
            <a:xfrm>
              <a:off x="3254400" y="3610080"/>
              <a:ext cx="2803680" cy="2177280"/>
              <a:chOff x="3254400" y="3610080"/>
              <a:chExt cx="2803680" cy="2177280"/>
            </a:xfrm>
          </p:grpSpPr>
          <p:sp>
            <p:nvSpPr>
              <p:cNvPr id="211" name=""/>
              <p:cNvSpPr/>
              <p:nvPr/>
            </p:nvSpPr>
            <p:spPr>
              <a:xfrm>
                <a:off x="3254400" y="4776120"/>
                <a:ext cx="172080" cy="193320"/>
              </a:xfrm>
              <a:prstGeom prst="ellipse">
                <a:avLst/>
              </a:prstGeom>
              <a:solidFill>
                <a:srgbClr val="0000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02200" y="5594040"/>
                <a:ext cx="171720" cy="193320"/>
              </a:xfrm>
              <a:prstGeom prst="ellipse">
                <a:avLst/>
              </a:prstGeom>
              <a:solidFill>
                <a:srgbClr val="ff00ff"/>
              </a:solidFill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420080" y="3610080"/>
                <a:ext cx="172080" cy="19332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587120" y="4311720"/>
                <a:ext cx="171720" cy="193320"/>
              </a:xfrm>
              <a:prstGeom prst="ellipse">
                <a:avLst/>
              </a:prstGeom>
              <a:solidFill>
                <a:srgbClr val="ff151e"/>
              </a:solidFill>
              <a:ln w="25560">
                <a:solidFill>
                  <a:srgbClr val="ff1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86000" y="4527720"/>
                <a:ext cx="172080" cy="193320"/>
              </a:xfrm>
              <a:prstGeom prst="ellipse">
                <a:avLst/>
              </a:prstGeom>
              <a:solidFill>
                <a:srgbClr val="00ff00"/>
              </a:solidFill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331080" y="3675600"/>
                <a:ext cx="1109880" cy="1181520"/>
              </a:xfrm>
              <a:custGeom>
                <a:avLst/>
                <a:gdLst/>
                <a:ahLst/>
                <a:rect l="l" t="t" r="r" b="b"/>
                <a:pathLst>
                  <a:path w="593" h="628">
                    <a:moveTo>
                      <a:pt x="8" y="628"/>
                    </a:moveTo>
                    <a:cubicBezTo>
                      <a:pt x="4" y="547"/>
                      <a:pt x="0" y="466"/>
                      <a:pt x="26" y="382"/>
                    </a:cubicBezTo>
                    <a:cubicBezTo>
                      <a:pt x="52" y="298"/>
                      <a:pt x="68" y="187"/>
                      <a:pt x="162" y="123"/>
                    </a:cubicBezTo>
                    <a:cubicBezTo>
                      <a:pt x="256" y="59"/>
                      <a:pt x="424" y="29"/>
                      <a:pt x="593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3414960" y="4464000"/>
                <a:ext cx="1162440" cy="38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774320" y="4394160"/>
                <a:ext cx="1128600" cy="19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4960" y="4960440"/>
                <a:ext cx="702000" cy="63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4291200" y="4683960"/>
                <a:ext cx="1658160" cy="995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01880" y="3613680"/>
                <a:ext cx="1414800" cy="919440"/>
              </a:xfrm>
              <a:custGeom>
                <a:avLst/>
                <a:gdLst/>
                <a:ahLst/>
                <a:rect l="l" t="t" r="r" b="b"/>
                <a:pathLst>
                  <a:path w="756" h="489">
                    <a:moveTo>
                      <a:pt x="0" y="45"/>
                    </a:moveTo>
                    <a:cubicBezTo>
                      <a:pt x="147" y="22"/>
                      <a:pt x="295" y="0"/>
                      <a:pt x="412" y="45"/>
                    </a:cubicBezTo>
                    <a:cubicBezTo>
                      <a:pt x="529" y="90"/>
                      <a:pt x="646" y="242"/>
                      <a:pt x="701" y="316"/>
                    </a:cubicBezTo>
                    <a:cubicBezTo>
                      <a:pt x="756" y="390"/>
                      <a:pt x="750" y="439"/>
                      <a:pt x="744" y="4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5812920" y="5154120"/>
              <a:ext cx="2010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Connectednes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grap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11200" y="583920"/>
            <a:ext cx="8166240" cy="887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adjacency relation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673280" y="2089080"/>
            <a:ext cx="3699000" cy="2684160"/>
            <a:chOff x="1673280" y="2089080"/>
            <a:chExt cx="3699000" cy="2684160"/>
          </a:xfrm>
        </p:grpSpPr>
        <p:grpSp>
          <p:nvGrpSpPr>
            <p:cNvPr id="225" name=""/>
            <p:cNvGrpSpPr/>
            <p:nvPr/>
          </p:nvGrpSpPr>
          <p:grpSpPr>
            <a:xfrm>
              <a:off x="1673280" y="2089080"/>
              <a:ext cx="3699000" cy="2684160"/>
              <a:chOff x="1673280" y="2089080"/>
              <a:chExt cx="3699000" cy="268416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1673280" y="2089080"/>
                <a:ext cx="3699000" cy="2684160"/>
                <a:chOff x="1673280" y="2089080"/>
                <a:chExt cx="3699000" cy="26841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1673280" y="2089080"/>
                  <a:ext cx="3699000" cy="2170800"/>
                </a:xfrm>
                <a:custGeom>
                  <a:avLst/>
                  <a:gdLst/>
                  <a:ahLst/>
                  <a:rect l="l" t="t" r="r" b="b"/>
                  <a:pathLst>
                    <a:path w="3292" h="1772">
                      <a:moveTo>
                        <a:pt x="6" y="1772"/>
                      </a:moveTo>
                      <a:lnTo>
                        <a:pt x="190" y="1686"/>
                      </a:lnTo>
                      <a:lnTo>
                        <a:pt x="338" y="1581"/>
                      </a:lnTo>
                      <a:lnTo>
                        <a:pt x="498" y="1397"/>
                      </a:lnTo>
                      <a:lnTo>
                        <a:pt x="560" y="1200"/>
                      </a:lnTo>
                      <a:cubicBezTo>
                        <a:pt x="609" y="964"/>
                        <a:pt x="609" y="1045"/>
                        <a:pt x="609" y="960"/>
                      </a:cubicBezTo>
                      <a:lnTo>
                        <a:pt x="658" y="738"/>
                      </a:lnTo>
                      <a:lnTo>
                        <a:pt x="701" y="523"/>
                      </a:lnTo>
                      <a:lnTo>
                        <a:pt x="824" y="375"/>
                      </a:lnTo>
                      <a:lnTo>
                        <a:pt x="978" y="295"/>
                      </a:lnTo>
                      <a:lnTo>
                        <a:pt x="1132" y="289"/>
                      </a:lnTo>
                      <a:lnTo>
                        <a:pt x="1280" y="363"/>
                      </a:lnTo>
                      <a:lnTo>
                        <a:pt x="1476" y="511"/>
                      </a:lnTo>
                      <a:lnTo>
                        <a:pt x="1612" y="652"/>
                      </a:lnTo>
                      <a:lnTo>
                        <a:pt x="1760" y="757"/>
                      </a:lnTo>
                      <a:lnTo>
                        <a:pt x="1932" y="812"/>
                      </a:lnTo>
                      <a:lnTo>
                        <a:pt x="2116" y="806"/>
                      </a:lnTo>
                      <a:lnTo>
                        <a:pt x="2295" y="671"/>
                      </a:lnTo>
                      <a:lnTo>
                        <a:pt x="2443" y="541"/>
                      </a:lnTo>
                      <a:lnTo>
                        <a:pt x="2560" y="486"/>
                      </a:lnTo>
                      <a:lnTo>
                        <a:pt x="2800" y="406"/>
                      </a:lnTo>
                      <a:lnTo>
                        <a:pt x="3070" y="363"/>
                      </a:lnTo>
                      <a:lnTo>
                        <a:pt x="3273" y="320"/>
                      </a:lnTo>
                      <a:lnTo>
                        <a:pt x="3292" y="6"/>
                      </a:lnTo>
                      <a:lnTo>
                        <a:pt x="3058" y="6"/>
                      </a:lnTo>
                      <a:lnTo>
                        <a:pt x="2473" y="166"/>
                      </a:lnTo>
                      <a:lnTo>
                        <a:pt x="2030" y="221"/>
                      </a:lnTo>
                      <a:lnTo>
                        <a:pt x="1544" y="227"/>
                      </a:lnTo>
                      <a:lnTo>
                        <a:pt x="1101" y="191"/>
                      </a:lnTo>
                      <a:cubicBezTo>
                        <a:pt x="638" y="5"/>
                        <a:pt x="640" y="171"/>
                        <a:pt x="640" y="0"/>
                      </a:cubicBezTo>
                      <a:lnTo>
                        <a:pt x="0" y="18"/>
                      </a:lnTo>
                      <a:lnTo>
                        <a:pt x="6" y="17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63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679760" y="2971080"/>
                  <a:ext cx="1721160" cy="1802160"/>
                </a:xfrm>
                <a:custGeom>
                  <a:avLst/>
                  <a:gdLst/>
                  <a:ahLst/>
                  <a:rect l="l" t="t" r="r" b="b"/>
                  <a:pathLst>
                    <a:path w="1532" h="1471">
                      <a:moveTo>
                        <a:pt x="0" y="1046"/>
                      </a:moveTo>
                      <a:lnTo>
                        <a:pt x="252" y="941"/>
                      </a:lnTo>
                      <a:lnTo>
                        <a:pt x="492" y="701"/>
                      </a:lnTo>
                      <a:lnTo>
                        <a:pt x="578" y="406"/>
                      </a:lnTo>
                      <a:lnTo>
                        <a:pt x="670" y="6"/>
                      </a:lnTo>
                      <a:lnTo>
                        <a:pt x="1532" y="0"/>
                      </a:lnTo>
                      <a:lnTo>
                        <a:pt x="1489" y="135"/>
                      </a:lnTo>
                      <a:lnTo>
                        <a:pt x="1501" y="289"/>
                      </a:lnTo>
                      <a:lnTo>
                        <a:pt x="1452" y="437"/>
                      </a:lnTo>
                      <a:lnTo>
                        <a:pt x="1384" y="634"/>
                      </a:lnTo>
                      <a:lnTo>
                        <a:pt x="1360" y="911"/>
                      </a:lnTo>
                      <a:lnTo>
                        <a:pt x="1378" y="1040"/>
                      </a:lnTo>
                      <a:lnTo>
                        <a:pt x="1427" y="1107"/>
                      </a:lnTo>
                      <a:lnTo>
                        <a:pt x="1390" y="1446"/>
                      </a:lnTo>
                      <a:lnTo>
                        <a:pt x="6" y="1471"/>
                      </a:lnTo>
                      <a:lnTo>
                        <a:pt x="0" y="104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3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256200" y="3294360"/>
                  <a:ext cx="973800" cy="1455480"/>
                </a:xfrm>
                <a:custGeom>
                  <a:avLst/>
                  <a:gdLst/>
                  <a:ahLst/>
                  <a:rect l="l" t="t" r="r" b="b"/>
                  <a:pathLst>
                    <a:path w="867" h="1188">
                      <a:moveTo>
                        <a:pt x="0" y="1188"/>
                      </a:moveTo>
                      <a:lnTo>
                        <a:pt x="43" y="813"/>
                      </a:lnTo>
                      <a:lnTo>
                        <a:pt x="49" y="523"/>
                      </a:lnTo>
                      <a:lnTo>
                        <a:pt x="141" y="259"/>
                      </a:lnTo>
                      <a:lnTo>
                        <a:pt x="289" y="62"/>
                      </a:lnTo>
                      <a:lnTo>
                        <a:pt x="363" y="13"/>
                      </a:lnTo>
                      <a:lnTo>
                        <a:pt x="504" y="0"/>
                      </a:lnTo>
                      <a:lnTo>
                        <a:pt x="658" y="37"/>
                      </a:lnTo>
                      <a:lnTo>
                        <a:pt x="763" y="154"/>
                      </a:lnTo>
                      <a:lnTo>
                        <a:pt x="831" y="271"/>
                      </a:lnTo>
                      <a:cubicBezTo>
                        <a:pt x="867" y="475"/>
                        <a:pt x="867" y="542"/>
                        <a:pt x="867" y="468"/>
                      </a:cubicBezTo>
                      <a:lnTo>
                        <a:pt x="787" y="585"/>
                      </a:lnTo>
                      <a:lnTo>
                        <a:pt x="664" y="665"/>
                      </a:lnTo>
                      <a:lnTo>
                        <a:pt x="523" y="862"/>
                      </a:lnTo>
                      <a:lnTo>
                        <a:pt x="467" y="1047"/>
                      </a:lnTo>
                      <a:lnTo>
                        <a:pt x="455" y="1182"/>
                      </a:lnTo>
                      <a:lnTo>
                        <a:pt x="0" y="1188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633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802320" y="2510280"/>
                  <a:ext cx="1562760" cy="2058480"/>
                </a:xfrm>
                <a:custGeom>
                  <a:avLst/>
                  <a:gdLst/>
                  <a:ahLst/>
                  <a:rect l="l" t="t" r="r" b="b"/>
                  <a:pathLst>
                    <a:path w="1391" h="1680">
                      <a:moveTo>
                        <a:pt x="0" y="1680"/>
                      </a:moveTo>
                      <a:lnTo>
                        <a:pt x="381" y="1600"/>
                      </a:lnTo>
                      <a:lnTo>
                        <a:pt x="868" y="1483"/>
                      </a:lnTo>
                      <a:lnTo>
                        <a:pt x="1372" y="1262"/>
                      </a:lnTo>
                      <a:lnTo>
                        <a:pt x="1378" y="530"/>
                      </a:lnTo>
                      <a:lnTo>
                        <a:pt x="997" y="819"/>
                      </a:lnTo>
                      <a:lnTo>
                        <a:pt x="1391" y="450"/>
                      </a:lnTo>
                      <a:lnTo>
                        <a:pt x="1391" y="0"/>
                      </a:lnTo>
                      <a:lnTo>
                        <a:pt x="714" y="142"/>
                      </a:lnTo>
                      <a:lnTo>
                        <a:pt x="751" y="234"/>
                      </a:lnTo>
                      <a:lnTo>
                        <a:pt x="548" y="308"/>
                      </a:lnTo>
                      <a:lnTo>
                        <a:pt x="615" y="400"/>
                      </a:lnTo>
                      <a:lnTo>
                        <a:pt x="486" y="468"/>
                      </a:lnTo>
                      <a:lnTo>
                        <a:pt x="449" y="696"/>
                      </a:lnTo>
                      <a:lnTo>
                        <a:pt x="437" y="757"/>
                      </a:lnTo>
                      <a:lnTo>
                        <a:pt x="418" y="1040"/>
                      </a:lnTo>
                      <a:lnTo>
                        <a:pt x="381" y="1114"/>
                      </a:lnTo>
                      <a:lnTo>
                        <a:pt x="240" y="1293"/>
                      </a:lnTo>
                      <a:lnTo>
                        <a:pt x="178" y="1330"/>
                      </a:lnTo>
                      <a:lnTo>
                        <a:pt x="61" y="1496"/>
                      </a:lnTo>
                      <a:lnTo>
                        <a:pt x="0" y="168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6336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359880" y="2978640"/>
                  <a:ext cx="968400" cy="429840"/>
                </a:xfrm>
                <a:custGeom>
                  <a:avLst/>
                  <a:gdLst/>
                  <a:ahLst/>
                  <a:rect l="l" t="t" r="r" b="b"/>
                  <a:pathLst>
                    <a:path w="862" h="351">
                      <a:moveTo>
                        <a:pt x="55" y="18"/>
                      </a:moveTo>
                      <a:lnTo>
                        <a:pt x="0" y="166"/>
                      </a:lnTo>
                      <a:lnTo>
                        <a:pt x="19" y="289"/>
                      </a:lnTo>
                      <a:lnTo>
                        <a:pt x="80" y="326"/>
                      </a:lnTo>
                      <a:lnTo>
                        <a:pt x="222" y="283"/>
                      </a:lnTo>
                      <a:lnTo>
                        <a:pt x="351" y="258"/>
                      </a:lnTo>
                      <a:lnTo>
                        <a:pt x="517" y="258"/>
                      </a:lnTo>
                      <a:lnTo>
                        <a:pt x="634" y="314"/>
                      </a:lnTo>
                      <a:lnTo>
                        <a:pt x="837" y="351"/>
                      </a:lnTo>
                      <a:lnTo>
                        <a:pt x="862" y="129"/>
                      </a:lnTo>
                      <a:lnTo>
                        <a:pt x="775" y="74"/>
                      </a:lnTo>
                      <a:lnTo>
                        <a:pt x="652" y="86"/>
                      </a:lnTo>
                      <a:lnTo>
                        <a:pt x="468" y="111"/>
                      </a:lnTo>
                      <a:lnTo>
                        <a:pt x="357" y="105"/>
                      </a:lnTo>
                      <a:lnTo>
                        <a:pt x="203" y="31"/>
                      </a:lnTo>
                      <a:lnTo>
                        <a:pt x="160" y="0"/>
                      </a:lnTo>
                      <a:lnTo>
                        <a:pt x="55" y="18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63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1679760" y="2947680"/>
                <a:ext cx="752760" cy="1290240"/>
              </a:xfrm>
              <a:custGeom>
                <a:avLst/>
                <a:gdLst/>
                <a:ahLst/>
                <a:rect l="l" t="t" r="r" b="b"/>
                <a:pathLst>
                  <a:path w="670" h="1053">
                    <a:moveTo>
                      <a:pt x="0" y="1053"/>
                    </a:moveTo>
                    <a:lnTo>
                      <a:pt x="240" y="954"/>
                    </a:lnTo>
                    <a:lnTo>
                      <a:pt x="486" y="708"/>
                    </a:lnTo>
                    <a:lnTo>
                      <a:pt x="670" y="0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3234960" y="4320000"/>
                <a:ext cx="56160" cy="4298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366360" y="2985840"/>
                <a:ext cx="48240" cy="354240"/>
              </a:xfrm>
              <a:custGeom>
                <a:avLst/>
                <a:gdLst/>
                <a:ahLst/>
                <a:rect l="l" t="t" r="r" b="b"/>
                <a:pathLst>
                  <a:path w="43" h="289">
                    <a:moveTo>
                      <a:pt x="43" y="0"/>
                    </a:moveTo>
                    <a:lnTo>
                      <a:pt x="0" y="142"/>
                    </a:lnTo>
                    <a:lnTo>
                      <a:pt x="0" y="289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4306320" y="3121920"/>
                <a:ext cx="27720" cy="3157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604760" y="2503080"/>
                <a:ext cx="760320" cy="166320"/>
              </a:xfrm>
              <a:custGeom>
                <a:avLst/>
                <a:gdLst/>
                <a:ahLst/>
                <a:rect l="l" t="t" r="r" b="b"/>
                <a:pathLst>
                  <a:path w="677" h="136">
                    <a:moveTo>
                      <a:pt x="0" y="136"/>
                    </a:moveTo>
                    <a:lnTo>
                      <a:pt x="344" y="56"/>
                    </a:lnTo>
                    <a:lnTo>
                      <a:pt x="677" y="0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3788640" y="3860640"/>
              <a:ext cx="441360" cy="716400"/>
            </a:xfrm>
            <a:custGeom>
              <a:avLst/>
              <a:gdLst/>
              <a:ahLst/>
              <a:rect l="l" t="t" r="r" b="b"/>
              <a:pathLst>
                <a:path w="393" h="585">
                  <a:moveTo>
                    <a:pt x="0" y="585"/>
                  </a:moveTo>
                  <a:lnTo>
                    <a:pt x="61" y="388"/>
                  </a:lnTo>
                  <a:lnTo>
                    <a:pt x="215" y="197"/>
                  </a:lnTo>
                  <a:lnTo>
                    <a:pt x="277" y="166"/>
                  </a:lnTo>
                  <a:lnTo>
                    <a:pt x="393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210200" y="2000160"/>
            <a:ext cx="5256720" cy="1373760"/>
            <a:chOff x="4210200" y="2000160"/>
            <a:chExt cx="5256720" cy="1373760"/>
          </a:xfrm>
        </p:grpSpPr>
        <p:sp>
          <p:nvSpPr>
            <p:cNvPr id="239" name=""/>
            <p:cNvSpPr/>
            <p:nvPr/>
          </p:nvSpPr>
          <p:spPr>
            <a:xfrm flipV="1">
              <a:off x="4273560" y="2579400"/>
              <a:ext cx="19029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210200" y="2609640"/>
              <a:ext cx="1956240" cy="69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07840" y="2000160"/>
              <a:ext cx="32590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No connectedness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Only (temporary)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adjacency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625920" y="5124600"/>
            <a:ext cx="2798280" cy="2177280"/>
            <a:chOff x="3625920" y="5124600"/>
            <a:chExt cx="2798280" cy="2177280"/>
          </a:xfrm>
        </p:grpSpPr>
        <p:sp>
          <p:nvSpPr>
            <p:cNvPr id="243" name=""/>
            <p:cNvSpPr/>
            <p:nvPr/>
          </p:nvSpPr>
          <p:spPr>
            <a:xfrm>
              <a:off x="3625920" y="6290640"/>
              <a:ext cx="171720" cy="19332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72280" y="7108560"/>
              <a:ext cx="171360" cy="193320"/>
            </a:xfrm>
            <a:prstGeom prst="ellipse">
              <a:avLst/>
            </a:prstGeom>
            <a:solidFill>
              <a:srgbClr val="ff00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89440" y="5124600"/>
              <a:ext cx="171720" cy="19332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56120" y="5826240"/>
              <a:ext cx="171360" cy="193320"/>
            </a:xfrm>
            <a:prstGeom prst="ellipse">
              <a:avLst/>
            </a:prstGeom>
            <a:solidFill>
              <a:srgbClr val="ff151e"/>
            </a:solidFill>
            <a:ln w="25560">
              <a:solidFill>
                <a:srgbClr val="ff15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52480" y="6042240"/>
              <a:ext cx="171720" cy="19332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02240" y="5190120"/>
              <a:ext cx="1107720" cy="1181520"/>
            </a:xfrm>
            <a:custGeom>
              <a:avLst/>
              <a:gdLst/>
              <a:ahLst/>
              <a:rect l="l" t="t" r="r" b="b"/>
              <a:pathLst>
                <a:path w="593" h="628">
                  <a:moveTo>
                    <a:pt x="8" y="628"/>
                  </a:moveTo>
                  <a:cubicBezTo>
                    <a:pt x="4" y="547"/>
                    <a:pt x="0" y="466"/>
                    <a:pt x="26" y="382"/>
                  </a:cubicBezTo>
                  <a:cubicBezTo>
                    <a:pt x="52" y="298"/>
                    <a:pt x="68" y="187"/>
                    <a:pt x="162" y="123"/>
                  </a:cubicBezTo>
                  <a:cubicBezTo>
                    <a:pt x="256" y="59"/>
                    <a:pt x="424" y="29"/>
                    <a:pt x="593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786480" y="5978520"/>
              <a:ext cx="1160280" cy="38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42960" y="5908680"/>
              <a:ext cx="1126440" cy="19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86480" y="6474960"/>
              <a:ext cx="700560" cy="63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660560" y="6198480"/>
              <a:ext cx="1654920" cy="99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70880" y="5128200"/>
              <a:ext cx="1412280" cy="919440"/>
            </a:xfrm>
            <a:custGeom>
              <a:avLst/>
              <a:gdLst/>
              <a:ahLst/>
              <a:rect l="l" t="t" r="r" b="b"/>
              <a:pathLst>
                <a:path w="756" h="489">
                  <a:moveTo>
                    <a:pt x="0" y="45"/>
                  </a:moveTo>
                  <a:cubicBezTo>
                    <a:pt x="147" y="22"/>
                    <a:pt x="295" y="0"/>
                    <a:pt x="412" y="45"/>
                  </a:cubicBezTo>
                  <a:cubicBezTo>
                    <a:pt x="529" y="90"/>
                    <a:pt x="646" y="242"/>
                    <a:pt x="701" y="316"/>
                  </a:cubicBezTo>
                  <a:cubicBezTo>
                    <a:pt x="756" y="390"/>
                    <a:pt x="750" y="439"/>
                    <a:pt x="744" y="48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7073280" y="6316560"/>
            <a:ext cx="201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onnectednes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djacenc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graph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570560" y="4732200"/>
            <a:ext cx="5834160" cy="2340000"/>
            <a:chOff x="4570560" y="4732200"/>
            <a:chExt cx="5834160" cy="2340000"/>
          </a:xfrm>
        </p:grpSpPr>
        <p:sp>
          <p:nvSpPr>
            <p:cNvPr id="256" name=""/>
            <p:cNvSpPr/>
            <p:nvPr/>
          </p:nvSpPr>
          <p:spPr>
            <a:xfrm flipV="1">
              <a:off x="4570560" y="6046920"/>
              <a:ext cx="469440" cy="1025280"/>
            </a:xfrm>
            <a:prstGeom prst="line">
              <a:avLst/>
            </a:prstGeom>
            <a:ln w="633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4909320" y="5271840"/>
              <a:ext cx="124920" cy="585720"/>
            </a:xfrm>
            <a:prstGeom prst="line">
              <a:avLst/>
            </a:prstGeom>
            <a:ln w="633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19240" y="4732200"/>
              <a:ext cx="38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Adjacency relations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4814280" y="5237280"/>
              <a:ext cx="2273040" cy="130968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034960" y="5281560"/>
              <a:ext cx="1989360" cy="29232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1880" y="574200"/>
            <a:ext cx="8178480" cy="887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djacency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282680" y="2360520"/>
            <a:ext cx="2803320" cy="2177280"/>
            <a:chOff x="1282680" y="2360520"/>
            <a:chExt cx="2803320" cy="2177280"/>
          </a:xfrm>
        </p:grpSpPr>
        <p:sp>
          <p:nvSpPr>
            <p:cNvPr id="263" name=""/>
            <p:cNvSpPr/>
            <p:nvPr/>
          </p:nvSpPr>
          <p:spPr>
            <a:xfrm>
              <a:off x="1282680" y="3526560"/>
              <a:ext cx="172080" cy="19332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0480" y="4344480"/>
              <a:ext cx="171720" cy="193320"/>
            </a:xfrm>
            <a:prstGeom prst="ellipse">
              <a:avLst/>
            </a:prstGeom>
            <a:solidFill>
              <a:srgbClr val="ff00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48360" y="2360520"/>
              <a:ext cx="172080" cy="19332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15040" y="3062160"/>
              <a:ext cx="171720" cy="193320"/>
            </a:xfrm>
            <a:prstGeom prst="ellipse">
              <a:avLst/>
            </a:prstGeom>
            <a:solidFill>
              <a:srgbClr val="ff151e"/>
            </a:solidFill>
            <a:ln w="25560">
              <a:solidFill>
                <a:srgbClr val="ff15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13920" y="3278160"/>
              <a:ext cx="172080" cy="19332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359360" y="2426040"/>
              <a:ext cx="1109520" cy="1181520"/>
            </a:xfrm>
            <a:custGeom>
              <a:avLst/>
              <a:gdLst/>
              <a:ahLst/>
              <a:rect l="l" t="t" r="r" b="b"/>
              <a:pathLst>
                <a:path w="593" h="628">
                  <a:moveTo>
                    <a:pt x="8" y="628"/>
                  </a:moveTo>
                  <a:cubicBezTo>
                    <a:pt x="4" y="547"/>
                    <a:pt x="0" y="466"/>
                    <a:pt x="26" y="382"/>
                  </a:cubicBezTo>
                  <a:cubicBezTo>
                    <a:pt x="52" y="298"/>
                    <a:pt x="68" y="187"/>
                    <a:pt x="162" y="123"/>
                  </a:cubicBezTo>
                  <a:cubicBezTo>
                    <a:pt x="256" y="59"/>
                    <a:pt x="424" y="29"/>
                    <a:pt x="593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1443240" y="3214440"/>
              <a:ext cx="1162440" cy="38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02240" y="3144600"/>
              <a:ext cx="1128240" cy="19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43240" y="3710880"/>
              <a:ext cx="701640" cy="63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319480" y="3434400"/>
              <a:ext cx="1657800" cy="99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30160" y="2364120"/>
              <a:ext cx="1414800" cy="919440"/>
            </a:xfrm>
            <a:custGeom>
              <a:avLst/>
              <a:gdLst/>
              <a:ahLst/>
              <a:rect l="l" t="t" r="r" b="b"/>
              <a:pathLst>
                <a:path w="756" h="489">
                  <a:moveTo>
                    <a:pt x="0" y="45"/>
                  </a:moveTo>
                  <a:cubicBezTo>
                    <a:pt x="147" y="22"/>
                    <a:pt x="295" y="0"/>
                    <a:pt x="412" y="45"/>
                  </a:cubicBezTo>
                  <a:cubicBezTo>
                    <a:pt x="529" y="90"/>
                    <a:pt x="646" y="242"/>
                    <a:pt x="701" y="316"/>
                  </a:cubicBezTo>
                  <a:cubicBezTo>
                    <a:pt x="756" y="390"/>
                    <a:pt x="750" y="439"/>
                    <a:pt x="744" y="48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5054760" y="3162240"/>
            <a:ext cx="4184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t all times the disc (red) is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adjacent to the fossa (yellow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t all times the disc (red) is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adjacent to the condyle (pink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227320" y="1968480"/>
            <a:ext cx="5837400" cy="2340000"/>
            <a:chOff x="2227320" y="1968480"/>
            <a:chExt cx="5837400" cy="2340000"/>
          </a:xfrm>
        </p:grpSpPr>
        <p:sp>
          <p:nvSpPr>
            <p:cNvPr id="276" name=""/>
            <p:cNvSpPr/>
            <p:nvPr/>
          </p:nvSpPr>
          <p:spPr>
            <a:xfrm flipV="1">
              <a:off x="2227320" y="3283200"/>
              <a:ext cx="469800" cy="1025280"/>
            </a:xfrm>
            <a:prstGeom prst="line">
              <a:avLst/>
            </a:prstGeom>
            <a:ln w="633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2566440" y="2508120"/>
              <a:ext cx="124920" cy="585720"/>
            </a:xfrm>
            <a:prstGeom prst="line">
              <a:avLst/>
            </a:prstGeom>
            <a:ln w="633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79240" y="1968480"/>
              <a:ext cx="38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Adjacency relations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471400" y="2473560"/>
              <a:ext cx="2276280" cy="130968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2692080" y="2517840"/>
              <a:ext cx="1992240" cy="29232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884400" y="4776840"/>
            <a:ext cx="6680520" cy="2311920"/>
            <a:chOff x="3884400" y="4776840"/>
            <a:chExt cx="6680520" cy="2311920"/>
          </a:xfrm>
        </p:grpSpPr>
        <p:sp>
          <p:nvSpPr>
            <p:cNvPr id="282" name=""/>
            <p:cNvSpPr/>
            <p:nvPr/>
          </p:nvSpPr>
          <p:spPr>
            <a:xfrm>
              <a:off x="3884400" y="5532480"/>
              <a:ext cx="6680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Gill Sans"/>
                  <a:ea typeface="ヒラギノ角ゴ Pro W3"/>
                </a:rPr>
                <a:t>But at different times the </a:t>
              </a: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Gill Sans"/>
                  <a:ea typeface="ヒラギノ角ゴ Pro W3"/>
                </a:rPr>
                <a:t>may be adjacent to different parts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Gill Sans"/>
                  <a:ea typeface="ヒラギノ角ゴ Pro W3"/>
                </a:rPr>
                <a:t>of the </a:t>
              </a: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r>
                <a:rPr b="0" lang="en-US" sz="3200" spc="-1" strike="noStrike">
                  <a:solidFill>
                    <a:srgbClr val="0000ff"/>
                  </a:solidFill>
                  <a:latin typeface="Gill Sans"/>
                  <a:ea typeface="ヒラギノ角ゴ Pro W3"/>
                </a:rPr>
                <a:t> /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29560" y="4776840"/>
              <a:ext cx="0" cy="879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452680" y="2830680"/>
            <a:ext cx="5686560" cy="334152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djacency </a:t>
            </a:r>
            <a:r>
              <a:rPr b="0" lang="en-US" sz="6400" spc="-1" strike="noStrike">
                <a:solidFill>
                  <a:srgbClr val="ff151e"/>
                </a:solidFill>
                <a:latin typeface="Gill Sans"/>
              </a:rPr>
              <a:t>disc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-</a:t>
            </a:r>
            <a:r>
              <a:rPr b="0" lang="en-US" sz="6400" spc="-1" strike="noStrike">
                <a:solidFill>
                  <a:srgbClr val="ffff00"/>
                </a:solidFill>
                <a:latin typeface="Gill Sans"/>
              </a:rPr>
              <a:t>fossa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"/>
          <p:cNvSpPr/>
          <p:nvPr/>
        </p:nvSpPr>
        <p:spPr>
          <a:xfrm>
            <a:off x="4600440" y="3967200"/>
            <a:ext cx="889200" cy="799920"/>
          </a:xfrm>
          <a:custGeom>
            <a:avLst/>
            <a:gdLst/>
            <a:ahLst/>
            <a:rect l="l" t="t" r="r" b="b"/>
            <a:pathLst>
              <a:path w="560" h="504">
                <a:moveTo>
                  <a:pt x="80" y="0"/>
                </a:moveTo>
                <a:lnTo>
                  <a:pt x="215" y="92"/>
                </a:lnTo>
                <a:lnTo>
                  <a:pt x="320" y="209"/>
                </a:lnTo>
                <a:lnTo>
                  <a:pt x="437" y="332"/>
                </a:lnTo>
                <a:lnTo>
                  <a:pt x="560" y="393"/>
                </a:lnTo>
                <a:lnTo>
                  <a:pt x="492" y="504"/>
                </a:lnTo>
                <a:lnTo>
                  <a:pt x="258" y="338"/>
                </a:lnTo>
                <a:lnTo>
                  <a:pt x="68" y="166"/>
                </a:lnTo>
                <a:lnTo>
                  <a:pt x="0" y="123"/>
                </a:lnTo>
                <a:lnTo>
                  <a:pt x="80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"/>
          <p:cNvSpPr/>
          <p:nvPr/>
        </p:nvSpPr>
        <p:spPr>
          <a:xfrm>
            <a:off x="4792680" y="498780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ime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452680" y="2830680"/>
            <a:ext cx="5686560" cy="334152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djacency </a:t>
            </a:r>
            <a:r>
              <a:rPr b="0" lang="en-US" sz="6400" spc="-1" strike="noStrike">
                <a:solidFill>
                  <a:srgbClr val="ff151e"/>
                </a:solidFill>
                <a:latin typeface="Gill Sans"/>
              </a:rPr>
              <a:t>disc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-</a:t>
            </a:r>
            <a:r>
              <a:rPr b="0" lang="en-US" sz="6400" spc="-1" strike="noStrike">
                <a:solidFill>
                  <a:srgbClr val="ffff00"/>
                </a:solidFill>
                <a:latin typeface="Gill Sans"/>
              </a:rPr>
              <a:t>fossa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"/>
          <p:cNvSpPr/>
          <p:nvPr/>
        </p:nvSpPr>
        <p:spPr>
          <a:xfrm>
            <a:off x="3936960" y="3701880"/>
            <a:ext cx="743040" cy="333720"/>
          </a:xfrm>
          <a:custGeom>
            <a:avLst/>
            <a:gdLst/>
            <a:ahLst/>
            <a:rect l="l" t="t" r="r" b="b"/>
            <a:pathLst>
              <a:path w="468" h="210">
                <a:moveTo>
                  <a:pt x="0" y="93"/>
                </a:moveTo>
                <a:lnTo>
                  <a:pt x="172" y="0"/>
                </a:lnTo>
                <a:lnTo>
                  <a:pt x="320" y="6"/>
                </a:lnTo>
                <a:lnTo>
                  <a:pt x="468" y="105"/>
                </a:lnTo>
                <a:lnTo>
                  <a:pt x="394" y="210"/>
                </a:lnTo>
                <a:lnTo>
                  <a:pt x="289" y="130"/>
                </a:lnTo>
                <a:lnTo>
                  <a:pt x="203" y="136"/>
                </a:lnTo>
                <a:lnTo>
                  <a:pt x="86" y="179"/>
                </a:lnTo>
                <a:lnTo>
                  <a:pt x="0" y="9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15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"/>
          <p:cNvSpPr/>
          <p:nvPr/>
        </p:nvSpPr>
        <p:spPr>
          <a:xfrm>
            <a:off x="4792680" y="498780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ime 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37880" y="541440"/>
            <a:ext cx="8178840" cy="518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AMPLES OF MEASURABLE VARIABLE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in level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al capacity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ss mobility of the jaw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ity of the TMJ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sure-pain threshold of the TMJ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opsychosocial factors contributing to TM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452680" y="2830680"/>
            <a:ext cx="5686560" cy="334152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djacency </a:t>
            </a:r>
            <a:r>
              <a:rPr b="0" lang="en-US" sz="6400" spc="-1" strike="noStrike">
                <a:solidFill>
                  <a:srgbClr val="ff151e"/>
                </a:solidFill>
                <a:latin typeface="Gill Sans"/>
              </a:rPr>
              <a:t>disc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-</a:t>
            </a:r>
            <a:r>
              <a:rPr b="0" lang="en-US" sz="6400" spc="-1" strike="noStrike">
                <a:solidFill>
                  <a:srgbClr val="ffff00"/>
                </a:solidFill>
                <a:latin typeface="Gill Sans"/>
              </a:rPr>
              <a:t>fossa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"/>
          <p:cNvSpPr/>
          <p:nvPr/>
        </p:nvSpPr>
        <p:spPr>
          <a:xfrm>
            <a:off x="3692520" y="3732120"/>
            <a:ext cx="488880" cy="693720"/>
          </a:xfrm>
          <a:custGeom>
            <a:avLst/>
            <a:gdLst/>
            <a:ahLst/>
            <a:rect l="l" t="t" r="r" b="b"/>
            <a:pathLst>
              <a:path w="308" h="437">
                <a:moveTo>
                  <a:pt x="0" y="381"/>
                </a:moveTo>
                <a:lnTo>
                  <a:pt x="148" y="80"/>
                </a:lnTo>
                <a:lnTo>
                  <a:pt x="246" y="0"/>
                </a:lnTo>
                <a:lnTo>
                  <a:pt x="308" y="86"/>
                </a:lnTo>
                <a:lnTo>
                  <a:pt x="203" y="215"/>
                </a:lnTo>
                <a:lnTo>
                  <a:pt x="92" y="437"/>
                </a:lnTo>
                <a:lnTo>
                  <a:pt x="0" y="38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"/>
          <p:cNvSpPr/>
          <p:nvPr/>
        </p:nvSpPr>
        <p:spPr>
          <a:xfrm>
            <a:off x="4792680" y="498780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ime 3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09880" y="4122720"/>
            <a:ext cx="1670040" cy="238428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"/>
          <p:cNvSpPr/>
          <p:nvPr/>
        </p:nvSpPr>
        <p:spPr>
          <a:xfrm>
            <a:off x="582120" y="650880"/>
            <a:ext cx="8949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djacency </a:t>
            </a:r>
            <a:r>
              <a:rPr b="0" lang="en-US" sz="6400" spc="-1" strike="noStrike">
                <a:solidFill>
                  <a:srgbClr val="ff151e"/>
                </a:solidFill>
                <a:latin typeface="Gill Sans"/>
                <a:ea typeface="ヒラギノ角ゴ Pro W3"/>
              </a:rPr>
              <a:t>disc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-</a:t>
            </a:r>
            <a:r>
              <a:rPr b="0" lang="en-US" sz="64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condyl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"/>
          <p:cNvSpPr/>
          <p:nvPr/>
        </p:nvSpPr>
        <p:spPr>
          <a:xfrm>
            <a:off x="5427720" y="494028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ime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"/>
          <p:cNvSpPr/>
          <p:nvPr/>
        </p:nvSpPr>
        <p:spPr>
          <a:xfrm>
            <a:off x="3537000" y="3976560"/>
            <a:ext cx="527040" cy="750960"/>
          </a:xfrm>
          <a:custGeom>
            <a:avLst/>
            <a:gdLst/>
            <a:ahLst/>
            <a:rect l="l" t="t" r="r" b="b"/>
            <a:pathLst>
              <a:path w="332" h="473">
                <a:moveTo>
                  <a:pt x="110" y="473"/>
                </a:moveTo>
                <a:cubicBezTo>
                  <a:pt x="184" y="250"/>
                  <a:pt x="106" y="252"/>
                  <a:pt x="190" y="252"/>
                </a:cubicBezTo>
                <a:lnTo>
                  <a:pt x="332" y="92"/>
                </a:lnTo>
                <a:lnTo>
                  <a:pt x="197" y="0"/>
                </a:lnTo>
                <a:lnTo>
                  <a:pt x="49" y="184"/>
                </a:lnTo>
                <a:lnTo>
                  <a:pt x="0" y="430"/>
                </a:lnTo>
                <a:lnTo>
                  <a:pt x="110" y="47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809880" y="4122720"/>
            <a:ext cx="1670040" cy="238428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"/>
          <p:cNvSpPr/>
          <p:nvPr/>
        </p:nvSpPr>
        <p:spPr>
          <a:xfrm>
            <a:off x="582120" y="650880"/>
            <a:ext cx="8949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djacency </a:t>
            </a:r>
            <a:r>
              <a:rPr b="0" lang="en-US" sz="6400" spc="-1" strike="noStrike">
                <a:solidFill>
                  <a:srgbClr val="ff151e"/>
                </a:solidFill>
                <a:latin typeface="Gill Sans"/>
                <a:ea typeface="ヒラギノ角ゴ Pro W3"/>
              </a:rPr>
              <a:t>disc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-</a:t>
            </a:r>
            <a:r>
              <a:rPr b="0" lang="en-US" sz="64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condyl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"/>
          <p:cNvSpPr/>
          <p:nvPr/>
        </p:nvSpPr>
        <p:spPr>
          <a:xfrm>
            <a:off x="4044960" y="3897360"/>
            <a:ext cx="712800" cy="206280"/>
          </a:xfrm>
          <a:custGeom>
            <a:avLst/>
            <a:gdLst/>
            <a:ahLst/>
            <a:rect l="l" t="t" r="r" b="b"/>
            <a:pathLst>
              <a:path w="449" h="130">
                <a:moveTo>
                  <a:pt x="0" y="7"/>
                </a:moveTo>
                <a:lnTo>
                  <a:pt x="0" y="130"/>
                </a:lnTo>
                <a:lnTo>
                  <a:pt x="449" y="130"/>
                </a:lnTo>
                <a:lnTo>
                  <a:pt x="443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15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"/>
          <p:cNvSpPr/>
          <p:nvPr/>
        </p:nvSpPr>
        <p:spPr>
          <a:xfrm>
            <a:off x="5427720" y="494028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ime 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809880" y="4122720"/>
            <a:ext cx="1670040" cy="238428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"/>
          <p:cNvSpPr/>
          <p:nvPr/>
        </p:nvSpPr>
        <p:spPr>
          <a:xfrm>
            <a:off x="582120" y="650880"/>
            <a:ext cx="8949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djacency </a:t>
            </a:r>
            <a:r>
              <a:rPr b="0" lang="en-US" sz="6400" spc="-1" strike="noStrike">
                <a:solidFill>
                  <a:srgbClr val="ff151e"/>
                </a:solidFill>
                <a:latin typeface="Gill Sans"/>
                <a:ea typeface="ヒラギノ角ゴ Pro W3"/>
              </a:rPr>
              <a:t>disc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-</a:t>
            </a:r>
            <a:r>
              <a:rPr b="0" lang="en-US" sz="64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condyl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"/>
          <p:cNvSpPr/>
          <p:nvPr/>
        </p:nvSpPr>
        <p:spPr>
          <a:xfrm>
            <a:off x="5427720" y="494028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ime 3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"/>
          <p:cNvSpPr/>
          <p:nvPr/>
        </p:nvSpPr>
        <p:spPr>
          <a:xfrm>
            <a:off x="4797360" y="4035600"/>
            <a:ext cx="517680" cy="545760"/>
          </a:xfrm>
          <a:custGeom>
            <a:avLst/>
            <a:gdLst/>
            <a:ahLst/>
            <a:rect l="l" t="t" r="r" b="b"/>
            <a:pathLst>
              <a:path w="326" h="344">
                <a:moveTo>
                  <a:pt x="61" y="0"/>
                </a:moveTo>
                <a:lnTo>
                  <a:pt x="0" y="104"/>
                </a:lnTo>
                <a:lnTo>
                  <a:pt x="135" y="203"/>
                </a:lnTo>
                <a:lnTo>
                  <a:pt x="196" y="344"/>
                </a:lnTo>
                <a:lnTo>
                  <a:pt x="326" y="283"/>
                </a:lnTo>
                <a:lnTo>
                  <a:pt x="227" y="129"/>
                </a:lnTo>
                <a:lnTo>
                  <a:pt x="61" y="0"/>
                </a:lnTo>
                <a:close/>
              </a:path>
            </a:pathLst>
          </a:custGeom>
          <a:solidFill>
            <a:srgbClr val="ff151e"/>
          </a:solidFill>
          <a:ln w="25560">
            <a:solidFill>
              <a:srgbClr val="ff15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80640" y="1206000"/>
            <a:ext cx="8178840" cy="1258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Ordering relation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26680" y="2666880"/>
            <a:ext cx="4407120" cy="2977200"/>
            <a:chOff x="526680" y="2666880"/>
            <a:chExt cx="4407120" cy="2977200"/>
          </a:xfrm>
        </p:grpSpPr>
        <p:sp>
          <p:nvSpPr>
            <p:cNvPr id="310" name=""/>
            <p:cNvSpPr/>
            <p:nvPr/>
          </p:nvSpPr>
          <p:spPr>
            <a:xfrm>
              <a:off x="526680" y="4087800"/>
              <a:ext cx="376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fining adjacenc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lation between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 </a:t>
              </a: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21080" y="2666880"/>
              <a:ext cx="2412720" cy="149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924440" y="2666880"/>
            <a:ext cx="4214160" cy="2956320"/>
            <a:chOff x="4924440" y="2666880"/>
            <a:chExt cx="4214160" cy="2956320"/>
          </a:xfrm>
        </p:grpSpPr>
        <p:sp>
          <p:nvSpPr>
            <p:cNvPr id="313" name=""/>
            <p:cNvSpPr/>
            <p:nvPr/>
          </p:nvSpPr>
          <p:spPr>
            <a:xfrm>
              <a:off x="5374800" y="4066920"/>
              <a:ext cx="376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fining adjacenc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lation between 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924440" y="2666880"/>
              <a:ext cx="2079720" cy="144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430200" y="3751200"/>
            <a:ext cx="4210200" cy="22957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950920" y="2678040"/>
            <a:ext cx="4624920" cy="4802760"/>
            <a:chOff x="2950920" y="2678040"/>
            <a:chExt cx="4624920" cy="4802760"/>
          </a:xfrm>
        </p:grpSpPr>
        <p:sp>
          <p:nvSpPr>
            <p:cNvPr id="317" name=""/>
            <p:cNvSpPr/>
            <p:nvPr/>
          </p:nvSpPr>
          <p:spPr>
            <a:xfrm>
              <a:off x="2950920" y="5924520"/>
              <a:ext cx="4624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Specifying relativ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location of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24440" y="2678040"/>
              <a:ext cx="9360" cy="335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14360" y="457200"/>
            <a:ext cx="940896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Gill Sans"/>
              </a:rPr>
              <a:t>Shape landmarks of the fossa</a:t>
            </a: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"/>
          <p:cNvSpPr/>
          <p:nvPr/>
        </p:nvSpPr>
        <p:spPr>
          <a:xfrm>
            <a:off x="4317840" y="2178000"/>
            <a:ext cx="568656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372280" y="3359160"/>
            <a:ext cx="4276800" cy="1806840"/>
            <a:chOff x="5372280" y="3359160"/>
            <a:chExt cx="4276800" cy="1806840"/>
          </a:xfrm>
        </p:grpSpPr>
        <p:sp>
          <p:nvSpPr>
            <p:cNvPr id="323" name=""/>
            <p:cNvSpPr/>
            <p:nvPr/>
          </p:nvSpPr>
          <p:spPr>
            <a:xfrm>
              <a:off x="5708520" y="4097160"/>
              <a:ext cx="39405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Convex curvatur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changes to concav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6884640" y="3359160"/>
              <a:ext cx="119160" cy="9381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8400600" y="3370320"/>
              <a:ext cx="273240" cy="87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72280" y="4014720"/>
              <a:ext cx="695160" cy="7430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Fiat boundarie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"/>
          <p:cNvSpPr/>
          <p:nvPr/>
        </p:nvSpPr>
        <p:spPr>
          <a:xfrm>
            <a:off x="4317840" y="2178000"/>
            <a:ext cx="568656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6886440" y="2841480"/>
            <a:ext cx="451080" cy="5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"/>
          <p:cNvSpPr/>
          <p:nvPr/>
        </p:nvSpPr>
        <p:spPr>
          <a:xfrm>
            <a:off x="8567640" y="2774880"/>
            <a:ext cx="21456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"/>
          <p:cNvSpPr/>
          <p:nvPr/>
        </p:nvSpPr>
        <p:spPr>
          <a:xfrm>
            <a:off x="4336920" y="3809880"/>
            <a:ext cx="102564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187960" y="3203640"/>
            <a:ext cx="4461120" cy="1962360"/>
            <a:chOff x="5187960" y="3203640"/>
            <a:chExt cx="4461120" cy="1962360"/>
          </a:xfrm>
        </p:grpSpPr>
        <p:grpSp>
          <p:nvGrpSpPr>
            <p:cNvPr id="334" name=""/>
            <p:cNvGrpSpPr/>
            <p:nvPr/>
          </p:nvGrpSpPr>
          <p:grpSpPr>
            <a:xfrm>
              <a:off x="5708520" y="3203640"/>
              <a:ext cx="3940560" cy="1962360"/>
              <a:chOff x="5708520" y="3203640"/>
              <a:chExt cx="3940560" cy="196236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708520" y="3271320"/>
                <a:ext cx="3940560" cy="1894680"/>
                <a:chOff x="5708520" y="3271320"/>
                <a:chExt cx="3940560" cy="18946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5708520" y="4097160"/>
                  <a:ext cx="394056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Gill Sans"/>
                      <a:ea typeface="ヒラギノ角ゴ Pro W3"/>
                    </a:rPr>
                    <a:t>Convex curvature</a:t>
                  </a:r>
                  <a:endParaRPr b="0" lang="en-US" sz="3200" spc="-1" strike="noStrike">
                    <a:solidFill>
                      <a:srgbClr val="000000"/>
                    </a:solidFill>
                    <a:latin typeface="Gill San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Gill Sans"/>
                      <a:ea typeface="ヒラギノ角ゴ Pro W3"/>
                    </a:rPr>
                    <a:t>changes to concave</a:t>
                  </a:r>
                  <a:endParaRPr b="0" lang="en-US" sz="3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 flipV="1">
                  <a:off x="6973920" y="3271320"/>
                  <a:ext cx="30240" cy="102564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 flipH="1">
                <a:off x="8400600" y="3203640"/>
                <a:ext cx="303480" cy="1046160"/>
              </a:xfrm>
              <a:prstGeom prst="line">
                <a:avLst/>
              </a:prstGeom>
              <a:ln cap="rnd" w="1908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5187960" y="4044960"/>
              <a:ext cx="879480" cy="712800"/>
            </a:xfrm>
            <a:prstGeom prst="line">
              <a:avLst/>
            </a:prstGeom>
            <a:ln cap="rnd" w="1908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317840" y="2178000"/>
            <a:ext cx="568656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763600" y="2998800"/>
            <a:ext cx="2964960" cy="2616480"/>
            <a:chOff x="5763600" y="2998800"/>
            <a:chExt cx="2964960" cy="2616480"/>
          </a:xfrm>
        </p:grpSpPr>
        <p:sp>
          <p:nvSpPr>
            <p:cNvPr id="343" name=""/>
            <p:cNvSpPr/>
            <p:nvPr/>
          </p:nvSpPr>
          <p:spPr>
            <a:xfrm>
              <a:off x="5763600" y="4546440"/>
              <a:ext cx="2964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Local maxima/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minim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6183360" y="2998800"/>
              <a:ext cx="371520" cy="164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7424640" y="3908520"/>
              <a:ext cx="263520" cy="79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14360" y="457200"/>
            <a:ext cx="940896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Gill Sans"/>
              </a:rPr>
              <a:t>Shape landmarks of the fossa</a:t>
            </a: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4317840" y="2178000"/>
            <a:ext cx="568656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095880" y="2998440"/>
            <a:ext cx="87480" cy="21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7688160" y="3908520"/>
            <a:ext cx="966960" cy="12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"/>
          <p:cNvSpPr/>
          <p:nvPr/>
        </p:nvSpPr>
        <p:spPr>
          <a:xfrm>
            <a:off x="5319720" y="5173560"/>
            <a:ext cx="21337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rticular (glenoid)fossa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"/>
          <p:cNvSpPr/>
          <p:nvPr/>
        </p:nvSpPr>
        <p:spPr>
          <a:xfrm>
            <a:off x="8043840" y="5202360"/>
            <a:ext cx="1600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rticular eminenc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4360" y="457200"/>
            <a:ext cx="940896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Gill Sans"/>
              </a:rPr>
              <a:t>Shape landmarks of the fossa</a:t>
            </a: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Fiat boundarie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"/>
          <p:cNvSpPr/>
          <p:nvPr/>
        </p:nvSpPr>
        <p:spPr>
          <a:xfrm>
            <a:off x="4317840" y="2178000"/>
            <a:ext cx="568656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6056280" y="2734920"/>
            <a:ext cx="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7718400" y="2862360"/>
            <a:ext cx="0" cy="10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9280" y="1037880"/>
            <a:ext cx="807084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NICAL RESEARCH IN TEMPOROMANDIBULAR DISORD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2480" y="2653920"/>
            <a:ext cx="8178840" cy="420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MD is a pain and disability disord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urrent have studies increased the size of the domain of analysis to capture all relevant variab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 temporomandibular joint (TMJ) is a crucial variable: it drives diagnosis and treatme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ntroversies abound concerning the relationship of joint characteristics, as represented in images, to patient symptoms and treatment choic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ill Sans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: how to represent TMJ image characteristics in a computer-based system that is interoperable with other data collected in the stud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Fiat boundarie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"/>
          <p:cNvSpPr/>
          <p:nvPr/>
        </p:nvSpPr>
        <p:spPr>
          <a:xfrm>
            <a:off x="4317840" y="2178000"/>
            <a:ext cx="568656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056280" y="2734920"/>
            <a:ext cx="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718400" y="2862360"/>
            <a:ext cx="0" cy="10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"/>
          <p:cNvSpPr/>
          <p:nvPr/>
        </p:nvSpPr>
        <p:spPr>
          <a:xfrm>
            <a:off x="4317840" y="3995640"/>
            <a:ext cx="1055880" cy="1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838920" y="2833560"/>
            <a:ext cx="351000" cy="51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8781840" y="2706480"/>
            <a:ext cx="206280" cy="51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"/>
          <p:cNvSpPr/>
          <p:nvPr/>
        </p:nvSpPr>
        <p:spPr>
          <a:xfrm>
            <a:off x="5693400" y="4762440"/>
            <a:ext cx="346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6 major fiat par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Frames of referenc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"/>
          <p:cNvSpPr/>
          <p:nvPr/>
        </p:nvSpPr>
        <p:spPr>
          <a:xfrm>
            <a:off x="4308480" y="2138400"/>
            <a:ext cx="5686560" cy="334152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6056280" y="2734920"/>
            <a:ext cx="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7718400" y="2862360"/>
            <a:ext cx="0" cy="10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"/>
          <p:cNvSpPr/>
          <p:nvPr/>
        </p:nvSpPr>
        <p:spPr>
          <a:xfrm>
            <a:off x="4317840" y="3995640"/>
            <a:ext cx="1055880" cy="1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6838920" y="2833560"/>
            <a:ext cx="351000" cy="51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8781840" y="2706480"/>
            <a:ext cx="206280" cy="51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"/>
          <p:cNvSpPr/>
          <p:nvPr/>
        </p:nvSpPr>
        <p:spPr>
          <a:xfrm>
            <a:off x="4323600" y="43419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"/>
          <p:cNvSpPr/>
          <p:nvPr/>
        </p:nvSpPr>
        <p:spPr>
          <a:xfrm>
            <a:off x="4574520" y="28764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"/>
          <p:cNvSpPr/>
          <p:nvPr/>
        </p:nvSpPr>
        <p:spPr>
          <a:xfrm>
            <a:off x="6298200" y="26305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"/>
          <p:cNvSpPr/>
          <p:nvPr/>
        </p:nvSpPr>
        <p:spPr>
          <a:xfrm>
            <a:off x="7096680" y="29844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"/>
          <p:cNvSpPr/>
          <p:nvPr/>
        </p:nvSpPr>
        <p:spPr>
          <a:xfrm>
            <a:off x="7964640" y="2739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"/>
          <p:cNvSpPr/>
          <p:nvPr/>
        </p:nvSpPr>
        <p:spPr>
          <a:xfrm>
            <a:off x="9182880" y="245736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"/>
          <p:cNvSpPr/>
          <p:nvPr/>
        </p:nvSpPr>
        <p:spPr>
          <a:xfrm>
            <a:off x="5286240" y="4786200"/>
            <a:ext cx="157320" cy="157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"/>
          <p:cNvSpPr/>
          <p:nvPr/>
        </p:nvSpPr>
        <p:spPr>
          <a:xfrm>
            <a:off x="5134680" y="4976640"/>
            <a:ext cx="41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ircle is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djacent-t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Frames of referenc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"/>
          <p:cNvSpPr/>
          <p:nvPr/>
        </p:nvSpPr>
        <p:spPr>
          <a:xfrm>
            <a:off x="4308480" y="2138400"/>
            <a:ext cx="5686560" cy="334152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6056280" y="2734920"/>
            <a:ext cx="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718400" y="2862360"/>
            <a:ext cx="0" cy="10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"/>
          <p:cNvSpPr/>
          <p:nvPr/>
        </p:nvSpPr>
        <p:spPr>
          <a:xfrm>
            <a:off x="4317840" y="3995640"/>
            <a:ext cx="1055880" cy="1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838920" y="2833560"/>
            <a:ext cx="351000" cy="51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8781840" y="2706480"/>
            <a:ext cx="206280" cy="51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"/>
          <p:cNvSpPr/>
          <p:nvPr/>
        </p:nvSpPr>
        <p:spPr>
          <a:xfrm>
            <a:off x="4323600" y="43419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"/>
          <p:cNvSpPr/>
          <p:nvPr/>
        </p:nvSpPr>
        <p:spPr>
          <a:xfrm>
            <a:off x="4574520" y="28764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"/>
          <p:cNvSpPr/>
          <p:nvPr/>
        </p:nvSpPr>
        <p:spPr>
          <a:xfrm>
            <a:off x="6298200" y="26305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"/>
          <p:cNvSpPr/>
          <p:nvPr/>
        </p:nvSpPr>
        <p:spPr>
          <a:xfrm>
            <a:off x="7096680" y="29844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"/>
          <p:cNvSpPr/>
          <p:nvPr/>
        </p:nvSpPr>
        <p:spPr>
          <a:xfrm>
            <a:off x="7964640" y="2739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"/>
          <p:cNvSpPr/>
          <p:nvPr/>
        </p:nvSpPr>
        <p:spPr>
          <a:xfrm>
            <a:off x="9182880" y="245736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"/>
          <p:cNvSpPr/>
          <p:nvPr/>
        </p:nvSpPr>
        <p:spPr>
          <a:xfrm>
            <a:off x="5589720" y="3400560"/>
            <a:ext cx="156960" cy="156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"/>
          <p:cNvSpPr/>
          <p:nvPr/>
        </p:nvSpPr>
        <p:spPr>
          <a:xfrm>
            <a:off x="5111640" y="4976640"/>
            <a:ext cx="41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ircle is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djacent-t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Frames of referenc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"/>
          <p:cNvSpPr/>
          <p:nvPr/>
        </p:nvSpPr>
        <p:spPr>
          <a:xfrm>
            <a:off x="4308480" y="2138400"/>
            <a:ext cx="5686560" cy="334152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6056280" y="2734920"/>
            <a:ext cx="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7718400" y="2862360"/>
            <a:ext cx="0" cy="10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"/>
          <p:cNvSpPr/>
          <p:nvPr/>
        </p:nvSpPr>
        <p:spPr>
          <a:xfrm>
            <a:off x="4317840" y="3995640"/>
            <a:ext cx="1055880" cy="1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838920" y="2833560"/>
            <a:ext cx="351000" cy="51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8781840" y="2706480"/>
            <a:ext cx="206280" cy="51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"/>
          <p:cNvSpPr/>
          <p:nvPr/>
        </p:nvSpPr>
        <p:spPr>
          <a:xfrm>
            <a:off x="4323600" y="43419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"/>
          <p:cNvSpPr/>
          <p:nvPr/>
        </p:nvSpPr>
        <p:spPr>
          <a:xfrm>
            <a:off x="4574520" y="28764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"/>
          <p:cNvSpPr/>
          <p:nvPr/>
        </p:nvSpPr>
        <p:spPr>
          <a:xfrm>
            <a:off x="6298200" y="26305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"/>
          <p:cNvSpPr/>
          <p:nvPr/>
        </p:nvSpPr>
        <p:spPr>
          <a:xfrm>
            <a:off x="7096680" y="29844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"/>
          <p:cNvSpPr/>
          <p:nvPr/>
        </p:nvSpPr>
        <p:spPr>
          <a:xfrm>
            <a:off x="7964640" y="2739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"/>
          <p:cNvSpPr/>
          <p:nvPr/>
        </p:nvSpPr>
        <p:spPr>
          <a:xfrm>
            <a:off x="9182880" y="245736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"/>
          <p:cNvSpPr/>
          <p:nvPr/>
        </p:nvSpPr>
        <p:spPr>
          <a:xfrm>
            <a:off x="5081760" y="4976640"/>
            <a:ext cx="51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is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djacent-t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C and 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"/>
          <p:cNvSpPr/>
          <p:nvPr/>
        </p:nvSpPr>
        <p:spPr>
          <a:xfrm>
            <a:off x="6350040" y="3146400"/>
            <a:ext cx="888840" cy="800280"/>
          </a:xfrm>
          <a:custGeom>
            <a:avLst/>
            <a:gdLst/>
            <a:ahLst/>
            <a:rect l="l" t="t" r="r" b="b"/>
            <a:pathLst>
              <a:path w="560" h="504">
                <a:moveTo>
                  <a:pt x="80" y="0"/>
                </a:moveTo>
                <a:lnTo>
                  <a:pt x="215" y="92"/>
                </a:lnTo>
                <a:lnTo>
                  <a:pt x="320" y="209"/>
                </a:lnTo>
                <a:lnTo>
                  <a:pt x="437" y="332"/>
                </a:lnTo>
                <a:lnTo>
                  <a:pt x="560" y="393"/>
                </a:lnTo>
                <a:lnTo>
                  <a:pt x="492" y="504"/>
                </a:lnTo>
                <a:lnTo>
                  <a:pt x="258" y="338"/>
                </a:lnTo>
                <a:lnTo>
                  <a:pt x="68" y="166"/>
                </a:lnTo>
                <a:lnTo>
                  <a:pt x="0" y="123"/>
                </a:lnTo>
                <a:lnTo>
                  <a:pt x="80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80640" y="1206000"/>
            <a:ext cx="8178840" cy="1258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Ordering relation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26680" y="2666880"/>
            <a:ext cx="4407120" cy="2977200"/>
            <a:chOff x="526680" y="2666880"/>
            <a:chExt cx="4407120" cy="2977200"/>
          </a:xfrm>
        </p:grpSpPr>
        <p:sp>
          <p:nvSpPr>
            <p:cNvPr id="418" name=""/>
            <p:cNvSpPr/>
            <p:nvPr/>
          </p:nvSpPr>
          <p:spPr>
            <a:xfrm>
              <a:off x="526680" y="4087800"/>
              <a:ext cx="376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fining adjacenc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lation between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 </a:t>
              </a: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521080" y="2666880"/>
              <a:ext cx="2412720" cy="149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4924440" y="2666880"/>
            <a:ext cx="4214160" cy="2956320"/>
            <a:chOff x="4924440" y="2666880"/>
            <a:chExt cx="4214160" cy="2956320"/>
          </a:xfrm>
        </p:grpSpPr>
        <p:sp>
          <p:nvSpPr>
            <p:cNvPr id="421" name=""/>
            <p:cNvSpPr/>
            <p:nvPr/>
          </p:nvSpPr>
          <p:spPr>
            <a:xfrm>
              <a:off x="5374800" y="4066920"/>
              <a:ext cx="376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fining adjacenc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lation between 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24440" y="2666880"/>
              <a:ext cx="2079720" cy="144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5599080" y="3692520"/>
            <a:ext cx="4210200" cy="22953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950920" y="2678040"/>
            <a:ext cx="4624920" cy="4802760"/>
            <a:chOff x="2950920" y="2678040"/>
            <a:chExt cx="4624920" cy="4802760"/>
          </a:xfrm>
        </p:grpSpPr>
        <p:sp>
          <p:nvSpPr>
            <p:cNvPr id="425" name=""/>
            <p:cNvSpPr/>
            <p:nvPr/>
          </p:nvSpPr>
          <p:spPr>
            <a:xfrm>
              <a:off x="2950920" y="5924520"/>
              <a:ext cx="4624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Specifying relativ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location of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24440" y="2678040"/>
              <a:ext cx="9360" cy="335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857760" y="4299120"/>
            <a:ext cx="1670040" cy="238428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416480" y="4308480"/>
            <a:ext cx="447120" cy="2384280"/>
            <a:chOff x="4416480" y="4308480"/>
            <a:chExt cx="447120" cy="2384280"/>
          </a:xfrm>
        </p:grpSpPr>
        <p:sp>
          <p:nvSpPr>
            <p:cNvPr id="429" name=""/>
            <p:cNvSpPr/>
            <p:nvPr/>
          </p:nvSpPr>
          <p:spPr>
            <a:xfrm>
              <a:off x="4416480" y="4308480"/>
              <a:ext cx="134640" cy="134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51120" y="5657760"/>
              <a:ext cx="312480" cy="103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4360" y="723960"/>
            <a:ext cx="940896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Shape landmarks of the condyle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as frame of reference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4854240" y="4757400"/>
            <a:ext cx="3877560" cy="1204920"/>
            <a:chOff x="4854240" y="4757400"/>
            <a:chExt cx="3877560" cy="1204920"/>
          </a:xfrm>
        </p:grpSpPr>
        <p:sp>
          <p:nvSpPr>
            <p:cNvPr id="433" name=""/>
            <p:cNvSpPr/>
            <p:nvPr/>
          </p:nvSpPr>
          <p:spPr>
            <a:xfrm>
              <a:off x="6123240" y="5015160"/>
              <a:ext cx="2608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nterior  head of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ndyle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4854240" y="4757400"/>
              <a:ext cx="1230120" cy="61596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V="1">
            <a:off x="3838680" y="5011200"/>
            <a:ext cx="1241280" cy="9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"/>
          <p:cNvSpPr/>
          <p:nvPr/>
        </p:nvSpPr>
        <p:spPr>
          <a:xfrm>
            <a:off x="3546360" y="4124160"/>
            <a:ext cx="527040" cy="750960"/>
          </a:xfrm>
          <a:custGeom>
            <a:avLst/>
            <a:gdLst/>
            <a:ahLst/>
            <a:rect l="l" t="t" r="r" b="b"/>
            <a:pathLst>
              <a:path w="332" h="473">
                <a:moveTo>
                  <a:pt x="110" y="473"/>
                </a:moveTo>
                <a:cubicBezTo>
                  <a:pt x="184" y="250"/>
                  <a:pt x="106" y="252"/>
                  <a:pt x="190" y="252"/>
                </a:cubicBezTo>
                <a:lnTo>
                  <a:pt x="332" y="92"/>
                </a:lnTo>
                <a:lnTo>
                  <a:pt x="197" y="0"/>
                </a:lnTo>
                <a:lnTo>
                  <a:pt x="49" y="184"/>
                </a:lnTo>
                <a:lnTo>
                  <a:pt x="0" y="430"/>
                </a:lnTo>
                <a:lnTo>
                  <a:pt x="110" y="47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"/>
          <p:cNvSpPr/>
          <p:nvPr/>
        </p:nvSpPr>
        <p:spPr>
          <a:xfrm>
            <a:off x="259560" y="2624040"/>
            <a:ext cx="928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is adjacent to 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 of the 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9400" y="4540320"/>
            <a:ext cx="3684240" cy="825480"/>
            <a:chOff x="419400" y="4540320"/>
            <a:chExt cx="3684240" cy="825480"/>
          </a:xfrm>
        </p:grpSpPr>
        <p:sp>
          <p:nvSpPr>
            <p:cNvPr id="439" name=""/>
            <p:cNvSpPr/>
            <p:nvPr/>
          </p:nvSpPr>
          <p:spPr>
            <a:xfrm>
              <a:off x="419400" y="4540320"/>
              <a:ext cx="216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terior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ad of condyl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490840" y="4976640"/>
              <a:ext cx="1612800" cy="2844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857760" y="4299120"/>
            <a:ext cx="1670040" cy="238428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4416480" y="4308480"/>
            <a:ext cx="447120" cy="2384280"/>
            <a:chOff x="4416480" y="4308480"/>
            <a:chExt cx="447120" cy="2384280"/>
          </a:xfrm>
        </p:grpSpPr>
        <p:sp>
          <p:nvSpPr>
            <p:cNvPr id="443" name=""/>
            <p:cNvSpPr/>
            <p:nvPr/>
          </p:nvSpPr>
          <p:spPr>
            <a:xfrm>
              <a:off x="4416480" y="4308480"/>
              <a:ext cx="134640" cy="134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51120" y="5657760"/>
              <a:ext cx="312480" cy="103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14360" y="723960"/>
            <a:ext cx="940896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Shape landmarks of the condyle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as frame of reference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854240" y="4757400"/>
            <a:ext cx="3877560" cy="1204920"/>
            <a:chOff x="4854240" y="4757400"/>
            <a:chExt cx="3877560" cy="1204920"/>
          </a:xfrm>
        </p:grpSpPr>
        <p:sp>
          <p:nvSpPr>
            <p:cNvPr id="447" name=""/>
            <p:cNvSpPr/>
            <p:nvPr/>
          </p:nvSpPr>
          <p:spPr>
            <a:xfrm>
              <a:off x="6123240" y="5015160"/>
              <a:ext cx="2608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nterior  head of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ndyle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4854240" y="4757400"/>
              <a:ext cx="1230120" cy="61596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49" name=""/>
          <p:cNvSpPr/>
          <p:nvPr/>
        </p:nvSpPr>
        <p:spPr>
          <a:xfrm flipV="1">
            <a:off x="3838680" y="5011200"/>
            <a:ext cx="1241280" cy="9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"/>
          <p:cNvSpPr/>
          <p:nvPr/>
        </p:nvSpPr>
        <p:spPr>
          <a:xfrm>
            <a:off x="1374120" y="2506680"/>
            <a:ext cx="74390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is adjacent to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 of the 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19400" y="4540320"/>
            <a:ext cx="3684240" cy="825480"/>
            <a:chOff x="419400" y="4540320"/>
            <a:chExt cx="3684240" cy="825480"/>
          </a:xfrm>
        </p:grpSpPr>
        <p:sp>
          <p:nvSpPr>
            <p:cNvPr id="452" name=""/>
            <p:cNvSpPr/>
            <p:nvPr/>
          </p:nvSpPr>
          <p:spPr>
            <a:xfrm>
              <a:off x="419400" y="4540320"/>
              <a:ext cx="216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terior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ad of condyl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2490840" y="4976640"/>
              <a:ext cx="1612800" cy="2844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4044960" y="3983040"/>
            <a:ext cx="712800" cy="206280"/>
          </a:xfrm>
          <a:custGeom>
            <a:avLst/>
            <a:gdLst/>
            <a:ahLst/>
            <a:rect l="l" t="t" r="r" b="b"/>
            <a:pathLst>
              <a:path w="449" h="130">
                <a:moveTo>
                  <a:pt x="0" y="7"/>
                </a:moveTo>
                <a:lnTo>
                  <a:pt x="0" y="130"/>
                </a:lnTo>
                <a:lnTo>
                  <a:pt x="449" y="130"/>
                </a:lnTo>
                <a:lnTo>
                  <a:pt x="443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15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57760" y="4299120"/>
            <a:ext cx="1670040" cy="238428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416480" y="4308480"/>
            <a:ext cx="447120" cy="2384280"/>
            <a:chOff x="4416480" y="4308480"/>
            <a:chExt cx="447120" cy="2384280"/>
          </a:xfrm>
        </p:grpSpPr>
        <p:sp>
          <p:nvSpPr>
            <p:cNvPr id="457" name=""/>
            <p:cNvSpPr/>
            <p:nvPr/>
          </p:nvSpPr>
          <p:spPr>
            <a:xfrm>
              <a:off x="4416480" y="4308480"/>
              <a:ext cx="134640" cy="134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51120" y="5657760"/>
              <a:ext cx="312480" cy="103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14360" y="723960"/>
            <a:ext cx="940896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Shape landmarks of the condyle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as frame of reference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854240" y="4757400"/>
            <a:ext cx="3877560" cy="1204920"/>
            <a:chOff x="4854240" y="4757400"/>
            <a:chExt cx="3877560" cy="1204920"/>
          </a:xfrm>
        </p:grpSpPr>
        <p:sp>
          <p:nvSpPr>
            <p:cNvPr id="461" name=""/>
            <p:cNvSpPr/>
            <p:nvPr/>
          </p:nvSpPr>
          <p:spPr>
            <a:xfrm>
              <a:off x="6123240" y="5015160"/>
              <a:ext cx="2608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nterior  head of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ndyle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 flipV="1">
              <a:off x="4854240" y="4757400"/>
              <a:ext cx="1230120" cy="61596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63" name=""/>
          <p:cNvSpPr/>
          <p:nvPr/>
        </p:nvSpPr>
        <p:spPr>
          <a:xfrm flipV="1">
            <a:off x="3838680" y="5011200"/>
            <a:ext cx="1241280" cy="9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"/>
          <p:cNvSpPr/>
          <p:nvPr/>
        </p:nvSpPr>
        <p:spPr>
          <a:xfrm>
            <a:off x="1376640" y="2506680"/>
            <a:ext cx="498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is adjacent to the </a:t>
            </a:r>
            <a:br>
              <a:rPr sz="32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 of the 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419400" y="4540320"/>
            <a:ext cx="3684240" cy="825480"/>
            <a:chOff x="419400" y="4540320"/>
            <a:chExt cx="3684240" cy="825480"/>
          </a:xfrm>
        </p:grpSpPr>
        <p:sp>
          <p:nvSpPr>
            <p:cNvPr id="466" name=""/>
            <p:cNvSpPr/>
            <p:nvPr/>
          </p:nvSpPr>
          <p:spPr>
            <a:xfrm>
              <a:off x="419400" y="4540320"/>
              <a:ext cx="216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terior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ad of condyl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2490840" y="4976640"/>
              <a:ext cx="1612800" cy="2844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4797360" y="4035600"/>
            <a:ext cx="517680" cy="545760"/>
          </a:xfrm>
          <a:custGeom>
            <a:avLst/>
            <a:gdLst/>
            <a:ahLst/>
            <a:rect l="l" t="t" r="r" b="b"/>
            <a:pathLst>
              <a:path w="326" h="344">
                <a:moveTo>
                  <a:pt x="61" y="0"/>
                </a:moveTo>
                <a:lnTo>
                  <a:pt x="0" y="104"/>
                </a:lnTo>
                <a:lnTo>
                  <a:pt x="135" y="203"/>
                </a:lnTo>
                <a:lnTo>
                  <a:pt x="196" y="344"/>
                </a:lnTo>
                <a:lnTo>
                  <a:pt x="326" y="283"/>
                </a:lnTo>
                <a:lnTo>
                  <a:pt x="227" y="129"/>
                </a:lnTo>
                <a:lnTo>
                  <a:pt x="61" y="0"/>
                </a:lnTo>
                <a:close/>
              </a:path>
            </a:pathLst>
          </a:custGeom>
          <a:solidFill>
            <a:srgbClr val="ff151e"/>
          </a:solidFill>
          <a:ln w="25560">
            <a:solidFill>
              <a:srgbClr val="ff15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80640" y="1206000"/>
            <a:ext cx="8178840" cy="1258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Ordering relation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526680" y="2666880"/>
            <a:ext cx="4407120" cy="2977200"/>
            <a:chOff x="526680" y="2666880"/>
            <a:chExt cx="4407120" cy="2977200"/>
          </a:xfrm>
        </p:grpSpPr>
        <p:sp>
          <p:nvSpPr>
            <p:cNvPr id="471" name=""/>
            <p:cNvSpPr/>
            <p:nvPr/>
          </p:nvSpPr>
          <p:spPr>
            <a:xfrm>
              <a:off x="526680" y="4087800"/>
              <a:ext cx="376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fining adjacenc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lation between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 </a:t>
              </a: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2521080" y="2666880"/>
              <a:ext cx="2412720" cy="149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4924440" y="2666880"/>
            <a:ext cx="4214160" cy="2956320"/>
            <a:chOff x="4924440" y="2666880"/>
            <a:chExt cx="4214160" cy="2956320"/>
          </a:xfrm>
        </p:grpSpPr>
        <p:sp>
          <p:nvSpPr>
            <p:cNvPr id="474" name=""/>
            <p:cNvSpPr/>
            <p:nvPr/>
          </p:nvSpPr>
          <p:spPr>
            <a:xfrm>
              <a:off x="5374800" y="4066920"/>
              <a:ext cx="376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fining adjacenc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lation between 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24440" y="2666880"/>
              <a:ext cx="2079720" cy="144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3068640" y="5715000"/>
            <a:ext cx="4210200" cy="19051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950920" y="2678040"/>
            <a:ext cx="4624920" cy="4802760"/>
            <a:chOff x="2950920" y="2678040"/>
            <a:chExt cx="4624920" cy="4802760"/>
          </a:xfrm>
        </p:grpSpPr>
        <p:sp>
          <p:nvSpPr>
            <p:cNvPr id="478" name=""/>
            <p:cNvSpPr/>
            <p:nvPr/>
          </p:nvSpPr>
          <p:spPr>
            <a:xfrm>
              <a:off x="2950920" y="5924520"/>
              <a:ext cx="4624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Specifying relativ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location of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924440" y="2678040"/>
              <a:ext cx="9360" cy="335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3857760" y="4299120"/>
            <a:ext cx="1670040" cy="238428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4416480" y="4308480"/>
            <a:ext cx="3626280" cy="2384280"/>
            <a:chOff x="4416480" y="4308480"/>
            <a:chExt cx="3626280" cy="2384280"/>
          </a:xfrm>
        </p:grpSpPr>
        <p:grpSp>
          <p:nvGrpSpPr>
            <p:cNvPr id="482" name=""/>
            <p:cNvGrpSpPr/>
            <p:nvPr/>
          </p:nvGrpSpPr>
          <p:grpSpPr>
            <a:xfrm>
              <a:off x="4511880" y="4694040"/>
              <a:ext cx="3530880" cy="1068840"/>
              <a:chOff x="4511880" y="4694040"/>
              <a:chExt cx="3530880" cy="1068840"/>
            </a:xfrm>
          </p:grpSpPr>
          <p:sp>
            <p:nvSpPr>
              <p:cNvPr id="483" name=""/>
              <p:cNvSpPr/>
              <p:nvPr/>
            </p:nvSpPr>
            <p:spPr>
              <a:xfrm>
                <a:off x="5211720" y="4694040"/>
                <a:ext cx="283104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Middle axis of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the condyle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4511880" y="5011200"/>
                <a:ext cx="898560" cy="227160"/>
              </a:xfrm>
              <a:prstGeom prst="line">
                <a:avLst/>
              </a:prstGeom>
              <a:ln cap="rnd" w="255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4416480" y="4308480"/>
              <a:ext cx="447840" cy="2384280"/>
              <a:chOff x="4416480" y="4308480"/>
              <a:chExt cx="447840" cy="2384280"/>
            </a:xfrm>
          </p:grpSpPr>
          <p:sp>
            <p:nvSpPr>
              <p:cNvPr id="486" name=""/>
              <p:cNvSpPr/>
              <p:nvPr/>
            </p:nvSpPr>
            <p:spPr>
              <a:xfrm>
                <a:off x="4416480" y="4308480"/>
                <a:ext cx="135000" cy="134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51480" y="5657760"/>
                <a:ext cx="312840" cy="103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grpSp>
        <p:nvGrpSpPr>
          <p:cNvPr id="488" name=""/>
          <p:cNvGrpSpPr/>
          <p:nvPr/>
        </p:nvGrpSpPr>
        <p:grpSpPr>
          <a:xfrm>
            <a:off x="4335120" y="3029040"/>
            <a:ext cx="3443400" cy="1270080"/>
            <a:chOff x="4335120" y="3029040"/>
            <a:chExt cx="3443400" cy="1270080"/>
          </a:xfrm>
        </p:grpSpPr>
        <p:sp>
          <p:nvSpPr>
            <p:cNvPr id="489" name=""/>
            <p:cNvSpPr/>
            <p:nvPr/>
          </p:nvSpPr>
          <p:spPr>
            <a:xfrm flipH="1" flipV="1">
              <a:off x="4335120" y="3029040"/>
              <a:ext cx="79560" cy="1270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15200" y="3160800"/>
              <a:ext cx="3163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Extension of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The middle axis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4375080" y="3605400"/>
              <a:ext cx="489240" cy="2088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14360" y="457200"/>
            <a:ext cx="940896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Shape landmarks of the condyle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2040" y="2474640"/>
            <a:ext cx="817848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oblems with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re-coordin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such as the pre-coordination of certain relationships of entities in the TMJ with clinical syndromes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Frames of referenc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"/>
          <p:cNvSpPr/>
          <p:nvPr/>
        </p:nvSpPr>
        <p:spPr>
          <a:xfrm>
            <a:off x="4308480" y="2138400"/>
            <a:ext cx="5686560" cy="334152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6056280" y="2734920"/>
            <a:ext cx="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718400" y="2862360"/>
            <a:ext cx="0" cy="10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"/>
          <p:cNvSpPr/>
          <p:nvPr/>
        </p:nvSpPr>
        <p:spPr>
          <a:xfrm>
            <a:off x="4317840" y="3995640"/>
            <a:ext cx="1055880" cy="1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6838920" y="2833560"/>
            <a:ext cx="351000" cy="51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8781840" y="2706480"/>
            <a:ext cx="206280" cy="51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"/>
          <p:cNvSpPr/>
          <p:nvPr/>
        </p:nvSpPr>
        <p:spPr>
          <a:xfrm>
            <a:off x="4323600" y="43419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"/>
          <p:cNvSpPr/>
          <p:nvPr/>
        </p:nvSpPr>
        <p:spPr>
          <a:xfrm>
            <a:off x="4574520" y="28764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"/>
          <p:cNvSpPr/>
          <p:nvPr/>
        </p:nvSpPr>
        <p:spPr>
          <a:xfrm>
            <a:off x="6298200" y="26305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"/>
          <p:cNvSpPr/>
          <p:nvPr/>
        </p:nvSpPr>
        <p:spPr>
          <a:xfrm>
            <a:off x="7096680" y="29844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"/>
          <p:cNvSpPr/>
          <p:nvPr/>
        </p:nvSpPr>
        <p:spPr>
          <a:xfrm>
            <a:off x="7964640" y="2739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"/>
          <p:cNvSpPr/>
          <p:nvPr/>
        </p:nvSpPr>
        <p:spPr>
          <a:xfrm>
            <a:off x="9182880" y="245736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"/>
          <p:cNvSpPr/>
          <p:nvPr/>
        </p:nvSpPr>
        <p:spPr>
          <a:xfrm>
            <a:off x="5637240" y="3565440"/>
            <a:ext cx="1670040" cy="238464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6195960" y="3575160"/>
            <a:ext cx="447840" cy="2384280"/>
            <a:chOff x="6195960" y="3575160"/>
            <a:chExt cx="447840" cy="2384280"/>
          </a:xfrm>
        </p:grpSpPr>
        <p:sp>
          <p:nvSpPr>
            <p:cNvPr id="509" name=""/>
            <p:cNvSpPr/>
            <p:nvPr/>
          </p:nvSpPr>
          <p:spPr>
            <a:xfrm>
              <a:off x="6195960" y="3575160"/>
              <a:ext cx="135000" cy="134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30960" y="4924440"/>
              <a:ext cx="312840" cy="103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11" name=""/>
          <p:cNvSpPr/>
          <p:nvPr/>
        </p:nvSpPr>
        <p:spPr>
          <a:xfrm flipH="1" flipV="1">
            <a:off x="6114600" y="2295360"/>
            <a:ext cx="79560" cy="1270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"/>
          <p:cNvSpPr/>
          <p:nvPr/>
        </p:nvSpPr>
        <p:spPr>
          <a:xfrm>
            <a:off x="1884960" y="6451560"/>
            <a:ext cx="775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he extension of the axis of the 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intersect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the fossa in region 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Frames of referenc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"/>
          <p:cNvSpPr/>
          <p:nvPr/>
        </p:nvSpPr>
        <p:spPr>
          <a:xfrm>
            <a:off x="4308480" y="2138400"/>
            <a:ext cx="5686560" cy="334152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6056280" y="2734920"/>
            <a:ext cx="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7718400" y="2862360"/>
            <a:ext cx="0" cy="10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"/>
          <p:cNvSpPr/>
          <p:nvPr/>
        </p:nvSpPr>
        <p:spPr>
          <a:xfrm>
            <a:off x="4317840" y="3995640"/>
            <a:ext cx="1055880" cy="1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6838920" y="2833560"/>
            <a:ext cx="351000" cy="51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8781840" y="2706480"/>
            <a:ext cx="206280" cy="51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"/>
          <p:cNvSpPr/>
          <p:nvPr/>
        </p:nvSpPr>
        <p:spPr>
          <a:xfrm>
            <a:off x="4323600" y="43419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"/>
          <p:cNvSpPr/>
          <p:nvPr/>
        </p:nvSpPr>
        <p:spPr>
          <a:xfrm>
            <a:off x="4574520" y="28764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"/>
          <p:cNvSpPr/>
          <p:nvPr/>
        </p:nvSpPr>
        <p:spPr>
          <a:xfrm>
            <a:off x="6298200" y="26305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"/>
          <p:cNvSpPr/>
          <p:nvPr/>
        </p:nvSpPr>
        <p:spPr>
          <a:xfrm>
            <a:off x="7096680" y="29844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"/>
          <p:cNvSpPr/>
          <p:nvPr/>
        </p:nvSpPr>
        <p:spPr>
          <a:xfrm>
            <a:off x="7964640" y="2739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"/>
          <p:cNvSpPr/>
          <p:nvPr/>
        </p:nvSpPr>
        <p:spPr>
          <a:xfrm>
            <a:off x="9182880" y="245736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"/>
          <p:cNvSpPr/>
          <p:nvPr/>
        </p:nvSpPr>
        <p:spPr>
          <a:xfrm>
            <a:off x="1884960" y="6451560"/>
            <a:ext cx="775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he extension of the axis of the 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intersect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the fossa in region 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"/>
          <p:cNvSpPr/>
          <p:nvPr/>
        </p:nvSpPr>
        <p:spPr>
          <a:xfrm>
            <a:off x="5218200" y="3828960"/>
            <a:ext cx="2170080" cy="1789200"/>
          </a:xfrm>
          <a:prstGeom prst="pie">
            <a:avLst/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5929200" y="3282480"/>
            <a:ext cx="1544760" cy="2227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72640" y="1974600"/>
            <a:ext cx="8178840" cy="175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Bringing the various ordering relations together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0640" y="1206000"/>
            <a:ext cx="8178840" cy="1258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Ordering relation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526680" y="2666880"/>
            <a:ext cx="4407120" cy="2977200"/>
            <a:chOff x="526680" y="2666880"/>
            <a:chExt cx="4407120" cy="2977200"/>
          </a:xfrm>
        </p:grpSpPr>
        <p:sp>
          <p:nvSpPr>
            <p:cNvPr id="533" name=""/>
            <p:cNvSpPr/>
            <p:nvPr/>
          </p:nvSpPr>
          <p:spPr>
            <a:xfrm>
              <a:off x="526680" y="4087800"/>
              <a:ext cx="376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fining adjacenc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lation between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 </a:t>
              </a: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2521080" y="2666880"/>
              <a:ext cx="2412720" cy="149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4924440" y="2666880"/>
            <a:ext cx="4214160" cy="2956320"/>
            <a:chOff x="4924440" y="2666880"/>
            <a:chExt cx="4214160" cy="2956320"/>
          </a:xfrm>
        </p:grpSpPr>
        <p:sp>
          <p:nvSpPr>
            <p:cNvPr id="536" name=""/>
            <p:cNvSpPr/>
            <p:nvPr/>
          </p:nvSpPr>
          <p:spPr>
            <a:xfrm>
              <a:off x="5374800" y="4066920"/>
              <a:ext cx="376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fining adjacenc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lation between 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924440" y="2666880"/>
              <a:ext cx="2079720" cy="144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2950920" y="2678040"/>
            <a:ext cx="4624920" cy="4802760"/>
            <a:chOff x="2950920" y="2678040"/>
            <a:chExt cx="4624920" cy="4802760"/>
          </a:xfrm>
        </p:grpSpPr>
        <p:sp>
          <p:nvSpPr>
            <p:cNvPr id="539" name=""/>
            <p:cNvSpPr/>
            <p:nvPr/>
          </p:nvSpPr>
          <p:spPr>
            <a:xfrm>
              <a:off x="2950920" y="5924520"/>
              <a:ext cx="4624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Specifying relativ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location of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24440" y="2678040"/>
              <a:ext cx="9360" cy="335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80640" y="1206000"/>
            <a:ext cx="8178840" cy="1258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Ordering relation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677160" y="2666880"/>
            <a:ext cx="4256640" cy="3176640"/>
            <a:chOff x="677160" y="2666880"/>
            <a:chExt cx="4256640" cy="3176640"/>
          </a:xfrm>
        </p:grpSpPr>
        <p:sp>
          <p:nvSpPr>
            <p:cNvPr id="543" name=""/>
            <p:cNvSpPr/>
            <p:nvPr/>
          </p:nvSpPr>
          <p:spPr>
            <a:xfrm flipH="1">
              <a:off x="2521080" y="2666880"/>
              <a:ext cx="2412720" cy="149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677160" y="3908520"/>
              <a:ext cx="3446640" cy="1935000"/>
              <a:chOff x="677160" y="3908520"/>
              <a:chExt cx="3446640" cy="1935000"/>
            </a:xfrm>
          </p:grpSpPr>
          <p:sp>
            <p:nvSpPr>
              <p:cNvPr id="545" name=""/>
              <p:cNvSpPr/>
              <p:nvPr/>
            </p:nvSpPr>
            <p:spPr>
              <a:xfrm>
                <a:off x="758160" y="3908520"/>
                <a:ext cx="3365640" cy="1935000"/>
              </a:xfrm>
              <a:custGeom>
                <a:avLst/>
                <a:gdLst/>
                <a:ahLst/>
                <a:rect l="l" t="t" r="r" b="b"/>
                <a:pathLst>
                  <a:path w="3582" h="2105">
                    <a:moveTo>
                      <a:pt x="0" y="2105"/>
                    </a:moveTo>
                    <a:lnTo>
                      <a:pt x="215" y="2025"/>
                    </a:lnTo>
                    <a:lnTo>
                      <a:pt x="369" y="1902"/>
                    </a:lnTo>
                    <a:lnTo>
                      <a:pt x="529" y="1711"/>
                    </a:lnTo>
                    <a:cubicBezTo>
                      <a:pt x="585" y="1488"/>
                      <a:pt x="509" y="1490"/>
                      <a:pt x="591" y="1490"/>
                    </a:cubicBezTo>
                    <a:lnTo>
                      <a:pt x="652" y="1219"/>
                    </a:lnTo>
                    <a:lnTo>
                      <a:pt x="708" y="936"/>
                    </a:lnTo>
                    <a:lnTo>
                      <a:pt x="831" y="653"/>
                    </a:lnTo>
                    <a:lnTo>
                      <a:pt x="942" y="560"/>
                    </a:lnTo>
                    <a:lnTo>
                      <a:pt x="1108" y="499"/>
                    </a:lnTo>
                    <a:lnTo>
                      <a:pt x="1274" y="523"/>
                    </a:lnTo>
                    <a:lnTo>
                      <a:pt x="1471" y="622"/>
                    </a:lnTo>
                    <a:lnTo>
                      <a:pt x="1618" y="751"/>
                    </a:lnTo>
                    <a:lnTo>
                      <a:pt x="1760" y="923"/>
                    </a:lnTo>
                    <a:lnTo>
                      <a:pt x="1926" y="1034"/>
                    </a:lnTo>
                    <a:lnTo>
                      <a:pt x="2043" y="1077"/>
                    </a:lnTo>
                    <a:lnTo>
                      <a:pt x="2283" y="1071"/>
                    </a:lnTo>
                    <a:lnTo>
                      <a:pt x="2486" y="899"/>
                    </a:lnTo>
                    <a:lnTo>
                      <a:pt x="2689" y="770"/>
                    </a:lnTo>
                    <a:lnTo>
                      <a:pt x="2942" y="653"/>
                    </a:lnTo>
                    <a:lnTo>
                      <a:pt x="3280" y="566"/>
                    </a:lnTo>
                    <a:lnTo>
                      <a:pt x="3538" y="530"/>
                    </a:lnTo>
                    <a:lnTo>
                      <a:pt x="3582" y="530"/>
                    </a:lnTo>
                    <a:lnTo>
                      <a:pt x="3563" y="123"/>
                    </a:lnTo>
                    <a:lnTo>
                      <a:pt x="3151" y="240"/>
                    </a:lnTo>
                    <a:lnTo>
                      <a:pt x="2738" y="363"/>
                    </a:lnTo>
                    <a:lnTo>
                      <a:pt x="2271" y="419"/>
                    </a:lnTo>
                    <a:lnTo>
                      <a:pt x="1908" y="437"/>
                    </a:lnTo>
                    <a:lnTo>
                      <a:pt x="1514" y="419"/>
                    </a:lnTo>
                    <a:lnTo>
                      <a:pt x="1157" y="370"/>
                    </a:lnTo>
                    <a:lnTo>
                      <a:pt x="818" y="277"/>
                    </a:lnTo>
                    <a:lnTo>
                      <a:pt x="591" y="160"/>
                    </a:lnTo>
                    <a:lnTo>
                      <a:pt x="406" y="19"/>
                    </a:lnTo>
                    <a:lnTo>
                      <a:pt x="18" y="0"/>
                    </a:lnTo>
                    <a:lnTo>
                      <a:pt x="0" y="2105"/>
                    </a:lnTo>
                    <a:close/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1792800" y="4253760"/>
                <a:ext cx="0" cy="141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2776680" y="4327560"/>
                <a:ext cx="0" cy="58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63920" y="4983840"/>
                <a:ext cx="624960" cy="96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2256120" y="4311000"/>
                <a:ext cx="207720" cy="29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 flipV="1">
                <a:off x="3405960" y="4237560"/>
                <a:ext cx="122040" cy="29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77160" y="5184360"/>
                <a:ext cx="441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25840" y="4335840"/>
                <a:ext cx="446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846800" y="4194000"/>
                <a:ext cx="43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313000" y="4399200"/>
                <a:ext cx="47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839680" y="425772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564000" y="4092120"/>
                <a:ext cx="392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966680" y="4492080"/>
                <a:ext cx="525960" cy="463320"/>
              </a:xfrm>
              <a:custGeom>
                <a:avLst/>
                <a:gdLst/>
                <a:ahLst/>
                <a:rect l="l" t="t" r="r" b="b"/>
                <a:pathLst>
                  <a:path w="560" h="504">
                    <a:moveTo>
                      <a:pt x="80" y="0"/>
                    </a:moveTo>
                    <a:lnTo>
                      <a:pt x="215" y="92"/>
                    </a:lnTo>
                    <a:lnTo>
                      <a:pt x="320" y="209"/>
                    </a:lnTo>
                    <a:lnTo>
                      <a:pt x="437" y="332"/>
                    </a:lnTo>
                    <a:lnTo>
                      <a:pt x="560" y="393"/>
                    </a:lnTo>
                    <a:lnTo>
                      <a:pt x="492" y="504"/>
                    </a:lnTo>
                    <a:lnTo>
                      <a:pt x="258" y="338"/>
                    </a:lnTo>
                    <a:lnTo>
                      <a:pt x="68" y="166"/>
                    </a:lnTo>
                    <a:lnTo>
                      <a:pt x="0" y="123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grpSp>
        <p:nvGrpSpPr>
          <p:cNvPr id="558" name=""/>
          <p:cNvGrpSpPr/>
          <p:nvPr/>
        </p:nvGrpSpPr>
        <p:grpSpPr>
          <a:xfrm>
            <a:off x="3123360" y="2678040"/>
            <a:ext cx="3777480" cy="4551480"/>
            <a:chOff x="3123360" y="2678040"/>
            <a:chExt cx="3777480" cy="4551480"/>
          </a:xfrm>
        </p:grpSpPr>
        <p:sp>
          <p:nvSpPr>
            <p:cNvPr id="559" name=""/>
            <p:cNvSpPr/>
            <p:nvPr/>
          </p:nvSpPr>
          <p:spPr>
            <a:xfrm>
              <a:off x="4924440" y="2678040"/>
              <a:ext cx="19080" cy="283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3123360" y="5224320"/>
              <a:ext cx="3777480" cy="2005200"/>
              <a:chOff x="3123360" y="5224320"/>
              <a:chExt cx="3777480" cy="2005200"/>
            </a:xfrm>
          </p:grpSpPr>
          <p:sp>
            <p:nvSpPr>
              <p:cNvPr id="561" name=""/>
              <p:cNvSpPr/>
              <p:nvPr/>
            </p:nvSpPr>
            <p:spPr>
              <a:xfrm>
                <a:off x="3189600" y="5224320"/>
                <a:ext cx="3711240" cy="1925640"/>
              </a:xfrm>
              <a:custGeom>
                <a:avLst/>
                <a:gdLst/>
                <a:ahLst/>
                <a:rect l="l" t="t" r="r" b="b"/>
                <a:pathLst>
                  <a:path w="3582" h="2105">
                    <a:moveTo>
                      <a:pt x="0" y="2105"/>
                    </a:moveTo>
                    <a:lnTo>
                      <a:pt x="215" y="2025"/>
                    </a:lnTo>
                    <a:lnTo>
                      <a:pt x="369" y="1902"/>
                    </a:lnTo>
                    <a:lnTo>
                      <a:pt x="529" y="1711"/>
                    </a:lnTo>
                    <a:cubicBezTo>
                      <a:pt x="585" y="1488"/>
                      <a:pt x="509" y="1490"/>
                      <a:pt x="591" y="1490"/>
                    </a:cubicBezTo>
                    <a:lnTo>
                      <a:pt x="652" y="1219"/>
                    </a:lnTo>
                    <a:lnTo>
                      <a:pt x="708" y="936"/>
                    </a:lnTo>
                    <a:lnTo>
                      <a:pt x="831" y="653"/>
                    </a:lnTo>
                    <a:lnTo>
                      <a:pt x="942" y="560"/>
                    </a:lnTo>
                    <a:lnTo>
                      <a:pt x="1108" y="499"/>
                    </a:lnTo>
                    <a:lnTo>
                      <a:pt x="1274" y="523"/>
                    </a:lnTo>
                    <a:lnTo>
                      <a:pt x="1471" y="622"/>
                    </a:lnTo>
                    <a:lnTo>
                      <a:pt x="1618" y="751"/>
                    </a:lnTo>
                    <a:lnTo>
                      <a:pt x="1760" y="923"/>
                    </a:lnTo>
                    <a:lnTo>
                      <a:pt x="1926" y="1034"/>
                    </a:lnTo>
                    <a:lnTo>
                      <a:pt x="2043" y="1077"/>
                    </a:lnTo>
                    <a:lnTo>
                      <a:pt x="2283" y="1071"/>
                    </a:lnTo>
                    <a:lnTo>
                      <a:pt x="2486" y="899"/>
                    </a:lnTo>
                    <a:lnTo>
                      <a:pt x="2689" y="770"/>
                    </a:lnTo>
                    <a:lnTo>
                      <a:pt x="2942" y="653"/>
                    </a:lnTo>
                    <a:lnTo>
                      <a:pt x="3280" y="566"/>
                    </a:lnTo>
                    <a:lnTo>
                      <a:pt x="3538" y="530"/>
                    </a:lnTo>
                    <a:lnTo>
                      <a:pt x="3582" y="530"/>
                    </a:lnTo>
                    <a:lnTo>
                      <a:pt x="3563" y="123"/>
                    </a:lnTo>
                    <a:lnTo>
                      <a:pt x="3151" y="240"/>
                    </a:lnTo>
                    <a:lnTo>
                      <a:pt x="2738" y="363"/>
                    </a:lnTo>
                    <a:lnTo>
                      <a:pt x="2271" y="419"/>
                    </a:lnTo>
                    <a:lnTo>
                      <a:pt x="1908" y="437"/>
                    </a:lnTo>
                    <a:lnTo>
                      <a:pt x="1514" y="419"/>
                    </a:lnTo>
                    <a:lnTo>
                      <a:pt x="1157" y="370"/>
                    </a:lnTo>
                    <a:lnTo>
                      <a:pt x="818" y="277"/>
                    </a:lnTo>
                    <a:lnTo>
                      <a:pt x="591" y="160"/>
                    </a:lnTo>
                    <a:lnTo>
                      <a:pt x="406" y="19"/>
                    </a:lnTo>
                    <a:lnTo>
                      <a:pt x="18" y="0"/>
                    </a:lnTo>
                    <a:lnTo>
                      <a:pt x="0" y="2105"/>
                    </a:lnTo>
                    <a:close/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4330080" y="5567760"/>
                <a:ext cx="0" cy="14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5415120" y="5641200"/>
                <a:ext cx="0" cy="58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195720" y="6294600"/>
                <a:ext cx="689040" cy="95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4840920" y="5624640"/>
                <a:ext cx="228960" cy="298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 flipV="1">
                <a:off x="6108840" y="5551560"/>
                <a:ext cx="134280" cy="298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123360" y="6494040"/>
                <a:ext cx="441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288240" y="5649480"/>
                <a:ext cx="446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412160" y="5508720"/>
                <a:ext cx="43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926240" y="5711760"/>
                <a:ext cx="47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507280" y="556992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302880" y="5407920"/>
                <a:ext cx="392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783240" y="6198480"/>
                <a:ext cx="1416240" cy="1031040"/>
              </a:xfrm>
              <a:prstGeom prst="pie">
                <a:avLst/>
              </a:prstGeom>
              <a:solidFill>
                <a:srgbClr val="ff00ff"/>
              </a:solidFill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4247280" y="5883480"/>
                <a:ext cx="1008000" cy="1283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grpSp>
        <p:nvGrpSpPr>
          <p:cNvPr id="575" name=""/>
          <p:cNvGrpSpPr/>
          <p:nvPr/>
        </p:nvGrpSpPr>
        <p:grpSpPr>
          <a:xfrm>
            <a:off x="4924440" y="2666880"/>
            <a:ext cx="4208400" cy="3752640"/>
            <a:chOff x="4924440" y="2666880"/>
            <a:chExt cx="4208400" cy="3752640"/>
          </a:xfrm>
        </p:grpSpPr>
        <p:sp>
          <p:nvSpPr>
            <p:cNvPr id="576" name=""/>
            <p:cNvSpPr/>
            <p:nvPr/>
          </p:nvSpPr>
          <p:spPr>
            <a:xfrm>
              <a:off x="4924440" y="2666880"/>
              <a:ext cx="2451240" cy="168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7443720" y="3762360"/>
              <a:ext cx="1689120" cy="2657160"/>
              <a:chOff x="7443720" y="3762360"/>
              <a:chExt cx="1689120" cy="2657160"/>
            </a:xfrm>
          </p:grpSpPr>
          <p:sp>
            <p:nvSpPr>
              <p:cNvPr id="578" name=""/>
              <p:cNvSpPr/>
              <p:nvPr/>
            </p:nvSpPr>
            <p:spPr>
              <a:xfrm>
                <a:off x="7462800" y="4025880"/>
                <a:ext cx="1670040" cy="2384280"/>
              </a:xfrm>
              <a:custGeom>
                <a:avLst/>
                <a:gdLst/>
                <a:ahLst/>
                <a:rect l="l" t="t" r="r" b="b"/>
                <a:pathLst>
                  <a:path w="1052" h="1502">
                    <a:moveTo>
                      <a:pt x="209" y="1502"/>
                    </a:moveTo>
                    <a:cubicBezTo>
                      <a:pt x="209" y="1483"/>
                      <a:pt x="209" y="1464"/>
                      <a:pt x="209" y="1446"/>
                    </a:cubicBezTo>
                    <a:lnTo>
                      <a:pt x="111" y="1139"/>
                    </a:lnTo>
                    <a:lnTo>
                      <a:pt x="37" y="856"/>
                    </a:lnTo>
                    <a:lnTo>
                      <a:pt x="0" y="486"/>
                    </a:lnTo>
                    <a:lnTo>
                      <a:pt x="12" y="265"/>
                    </a:lnTo>
                    <a:lnTo>
                      <a:pt x="111" y="92"/>
                    </a:lnTo>
                    <a:lnTo>
                      <a:pt x="197" y="19"/>
                    </a:lnTo>
                    <a:lnTo>
                      <a:pt x="381" y="0"/>
                    </a:lnTo>
                    <a:lnTo>
                      <a:pt x="523" y="37"/>
                    </a:lnTo>
                    <a:lnTo>
                      <a:pt x="689" y="142"/>
                    </a:lnTo>
                    <a:lnTo>
                      <a:pt x="769" y="283"/>
                    </a:lnTo>
                    <a:lnTo>
                      <a:pt x="769" y="431"/>
                    </a:lnTo>
                    <a:lnTo>
                      <a:pt x="751" y="622"/>
                    </a:lnTo>
                    <a:lnTo>
                      <a:pt x="751" y="782"/>
                    </a:lnTo>
                    <a:lnTo>
                      <a:pt x="763" y="905"/>
                    </a:lnTo>
                    <a:lnTo>
                      <a:pt x="837" y="1102"/>
                    </a:lnTo>
                    <a:lnTo>
                      <a:pt x="941" y="1311"/>
                    </a:lnTo>
                    <a:lnTo>
                      <a:pt x="1052" y="1496"/>
                    </a:lnTo>
                    <a:lnTo>
                      <a:pt x="209" y="1502"/>
                    </a:lnTo>
                    <a:close/>
                  </a:path>
                </a:pathLst>
              </a:custGeom>
              <a:solidFill>
                <a:srgbClr val="ff00ff"/>
              </a:solidFill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grpSp>
            <p:nvGrpSpPr>
              <p:cNvPr id="579" name=""/>
              <p:cNvGrpSpPr/>
              <p:nvPr/>
            </p:nvGrpSpPr>
            <p:grpSpPr>
              <a:xfrm>
                <a:off x="8021520" y="4035240"/>
                <a:ext cx="447120" cy="2384280"/>
                <a:chOff x="8021520" y="4035240"/>
                <a:chExt cx="447120" cy="23842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8021520" y="4035240"/>
                  <a:ext cx="134640" cy="1349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8156160" y="5384520"/>
                  <a:ext cx="312480" cy="1035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 flipV="1">
                <a:off x="7443720" y="4737960"/>
                <a:ext cx="1241280" cy="96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402400" y="3762360"/>
                <a:ext cx="517680" cy="545760"/>
              </a:xfrm>
              <a:custGeom>
                <a:avLst/>
                <a:gdLst/>
                <a:ahLst/>
                <a:rect l="l" t="t" r="r" b="b"/>
                <a:pathLst>
                  <a:path w="326" h="344">
                    <a:moveTo>
                      <a:pt x="61" y="0"/>
                    </a:moveTo>
                    <a:lnTo>
                      <a:pt x="0" y="104"/>
                    </a:lnTo>
                    <a:lnTo>
                      <a:pt x="135" y="203"/>
                    </a:lnTo>
                    <a:lnTo>
                      <a:pt x="196" y="344"/>
                    </a:lnTo>
                    <a:lnTo>
                      <a:pt x="326" y="283"/>
                    </a:lnTo>
                    <a:lnTo>
                      <a:pt x="227" y="129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151e"/>
              </a:solidFill>
              <a:ln w="25560">
                <a:solidFill>
                  <a:srgbClr val="ff15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90360" y="9270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inging together multiple ordering structur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frames of reference locates the position of the disc and condyle with respect to each other and to the foss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"/>
          <p:cNvSpPr/>
          <p:nvPr/>
        </p:nvSpPr>
        <p:spPr>
          <a:xfrm>
            <a:off x="5332320" y="2525760"/>
            <a:ext cx="4508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he extension of the axis of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he condyl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intersect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th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fossa in region 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"/>
          <p:cNvSpPr/>
          <p:nvPr/>
        </p:nvSpPr>
        <p:spPr>
          <a:xfrm>
            <a:off x="615960" y="2743200"/>
            <a:ext cx="4173480" cy="22906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1898640" y="3152520"/>
            <a:ext cx="0" cy="1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3117960" y="3240000"/>
            <a:ext cx="0" cy="69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"/>
          <p:cNvSpPr/>
          <p:nvPr/>
        </p:nvSpPr>
        <p:spPr>
          <a:xfrm>
            <a:off x="622440" y="4016520"/>
            <a:ext cx="77472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2473200" y="3219480"/>
            <a:ext cx="257400" cy="3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3898800" y="3132000"/>
            <a:ext cx="152640" cy="3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"/>
          <p:cNvSpPr/>
          <p:nvPr/>
        </p:nvSpPr>
        <p:spPr>
          <a:xfrm>
            <a:off x="569160" y="425448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"/>
          <p:cNvSpPr/>
          <p:nvPr/>
        </p:nvSpPr>
        <p:spPr>
          <a:xfrm>
            <a:off x="751680" y="324972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"/>
          <p:cNvSpPr/>
          <p:nvPr/>
        </p:nvSpPr>
        <p:spPr>
          <a:xfrm>
            <a:off x="2018520" y="308124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"/>
          <p:cNvSpPr/>
          <p:nvPr/>
        </p:nvSpPr>
        <p:spPr>
          <a:xfrm>
            <a:off x="2599200" y="33228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"/>
          <p:cNvSpPr/>
          <p:nvPr/>
        </p:nvSpPr>
        <p:spPr>
          <a:xfrm>
            <a:off x="3246480" y="3156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"/>
          <p:cNvSpPr/>
          <p:nvPr/>
        </p:nvSpPr>
        <p:spPr>
          <a:xfrm>
            <a:off x="4142520" y="296244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"/>
          <p:cNvSpPr/>
          <p:nvPr/>
        </p:nvSpPr>
        <p:spPr>
          <a:xfrm>
            <a:off x="2363760" y="3624120"/>
            <a:ext cx="644400" cy="552600"/>
          </a:xfrm>
          <a:custGeom>
            <a:avLst/>
            <a:gdLst/>
            <a:ahLst/>
            <a:rect l="l" t="t" r="r" b="b"/>
            <a:pathLst>
              <a:path w="560" h="504">
                <a:moveTo>
                  <a:pt x="80" y="0"/>
                </a:moveTo>
                <a:lnTo>
                  <a:pt x="215" y="92"/>
                </a:lnTo>
                <a:lnTo>
                  <a:pt x="320" y="209"/>
                </a:lnTo>
                <a:lnTo>
                  <a:pt x="437" y="332"/>
                </a:lnTo>
                <a:lnTo>
                  <a:pt x="560" y="393"/>
                </a:lnTo>
                <a:lnTo>
                  <a:pt x="492" y="504"/>
                </a:lnTo>
                <a:lnTo>
                  <a:pt x="258" y="338"/>
                </a:lnTo>
                <a:lnTo>
                  <a:pt x="68" y="166"/>
                </a:lnTo>
                <a:lnTo>
                  <a:pt x="0" y="123"/>
                </a:lnTo>
                <a:lnTo>
                  <a:pt x="80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216080" y="3584520"/>
            <a:ext cx="1655640" cy="1602000"/>
            <a:chOff x="1216080" y="3584520"/>
            <a:chExt cx="1655640" cy="1602000"/>
          </a:xfrm>
        </p:grpSpPr>
        <p:sp>
          <p:nvSpPr>
            <p:cNvPr id="600" name=""/>
            <p:cNvSpPr/>
            <p:nvPr/>
          </p:nvSpPr>
          <p:spPr>
            <a:xfrm>
              <a:off x="1216080" y="3959280"/>
              <a:ext cx="1593720" cy="1227240"/>
            </a:xfrm>
            <a:prstGeom prst="pie">
              <a:avLst/>
            </a:prstGeom>
            <a:solidFill>
              <a:srgbClr val="ff00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1738440" y="3584520"/>
              <a:ext cx="1133280" cy="1527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97120" y="4151160"/>
              <a:ext cx="850680" cy="65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5088960" y="4175280"/>
            <a:ext cx="497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he disc i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djacent-to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foss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egions C and 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>
            <a:off x="5183280" y="5346720"/>
            <a:ext cx="4811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he disc is adjacent to th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and anterior  head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condy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7475400" cy="133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32040" y="3182400"/>
            <a:ext cx="8178480" cy="1884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now have a three dimensional combinatorial space of possible relationship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ained in the domain of the TMJ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90360" y="385560"/>
            <a:ext cx="8178840" cy="186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ll combinatorial possible constellat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2325600" y="3389400"/>
          <a:ext cx="6935760" cy="36846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2160"/>
                <a:gridCol w="990720"/>
                <a:gridCol w="990720"/>
                <a:gridCol w="9903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9" name=""/>
          <p:cNvSpPr/>
          <p:nvPr/>
        </p:nvSpPr>
        <p:spPr>
          <a:xfrm>
            <a:off x="3354480" y="7018200"/>
            <a:ext cx="54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head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90360" y="385560"/>
            <a:ext cx="8178840" cy="186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ll combinatorial possible constellat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2325600" y="3389400"/>
          <a:ext cx="6935760" cy="36846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2160"/>
                <a:gridCol w="990720"/>
                <a:gridCol w="990720"/>
                <a:gridCol w="9903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2" name=""/>
          <p:cNvSpPr/>
          <p:nvPr/>
        </p:nvSpPr>
        <p:spPr>
          <a:xfrm>
            <a:off x="4906080" y="2270160"/>
            <a:ext cx="52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nterior h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741760" y="2827440"/>
          <a:ext cx="6935760" cy="368460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  <a:gridCol w="990720"/>
                <a:gridCol w="992160"/>
                <a:gridCol w="990360"/>
                <a:gridCol w="990720"/>
                <a:gridCol w="99072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354480" y="7018200"/>
            <a:ext cx="54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head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90360" y="385560"/>
            <a:ext cx="8178840" cy="186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ll combinatorial possible constellat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2325600" y="3389400"/>
          <a:ext cx="6935760" cy="36846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2160"/>
                <a:gridCol w="990720"/>
                <a:gridCol w="990720"/>
                <a:gridCol w="9903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7" name=""/>
          <p:cNvSpPr/>
          <p:nvPr/>
        </p:nvSpPr>
        <p:spPr>
          <a:xfrm>
            <a:off x="3399480" y="2689200"/>
            <a:ext cx="61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  <a:ea typeface="ヒラギノ角ゴ Pro W3"/>
              </a:rPr>
              <a:t>Disc is adjacent to fossa regio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3354480" y="7018200"/>
            <a:ext cx="54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head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0120" y="824040"/>
            <a:ext cx="8178840" cy="1893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N EXAMPLE OF PRE-COORDINATIO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60480" y="3465360"/>
            <a:ext cx="6967440" cy="889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1000"/>
          </a:bodyPr>
          <a:p>
            <a:pPr lvl="2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zone of articu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relation of the posterior band of the articular disc in relation to the head of the condyle in the closed position.  The posterior band should be between 11:30 and 12 o’clock. If it is anterior to that position it demonstrates the pathology; anterior disc displacem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90360" y="385560"/>
            <a:ext cx="8178840" cy="186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ll combinatorial possible constellat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2325600" y="3389400"/>
          <a:ext cx="6935760" cy="36846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2160"/>
                <a:gridCol w="990720"/>
                <a:gridCol w="990720"/>
                <a:gridCol w="9903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1" name=""/>
          <p:cNvSpPr/>
          <p:nvPr/>
        </p:nvSpPr>
        <p:spPr>
          <a:xfrm>
            <a:off x="232560" y="4233960"/>
            <a:ext cx="2043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Axi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interse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"/>
          <p:cNvSpPr/>
          <p:nvPr/>
        </p:nvSpPr>
        <p:spPr>
          <a:xfrm>
            <a:off x="3399480" y="2689200"/>
            <a:ext cx="61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  <a:ea typeface="ヒラギノ角ゴ Pro W3"/>
              </a:rPr>
              <a:t>Disc is adjacent to fossa regio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3354480" y="7018200"/>
            <a:ext cx="54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head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4" name=""/>
          <p:cNvGraphicFramePr/>
          <p:nvPr/>
        </p:nvGraphicFramePr>
        <p:xfrm>
          <a:off x="2325600" y="3389400"/>
          <a:ext cx="6935760" cy="36846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2160"/>
                <a:gridCol w="990720"/>
                <a:gridCol w="990720"/>
                <a:gridCol w="9903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 W3"/>
                        </a:rPr>
                        <a:t>X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 W3"/>
                        </a:rPr>
                        <a:t>X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 W3"/>
                        </a:rPr>
                        <a:t>X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5" name=""/>
          <p:cNvSpPr/>
          <p:nvPr/>
        </p:nvSpPr>
        <p:spPr>
          <a:xfrm>
            <a:off x="232560" y="4233960"/>
            <a:ext cx="2043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Axi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interse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1109520" y="353880"/>
            <a:ext cx="2998800" cy="263232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3399480" y="2689200"/>
            <a:ext cx="61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  <a:ea typeface="ヒラギノ角ゴ Pro W3"/>
              </a:rPr>
              <a:t>Disc is adjacent to fossa regio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>
            <a:off x="3355200" y="7018200"/>
            <a:ext cx="69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&amp; anterior head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"/>
          <p:cNvGraphicFramePr/>
          <p:nvPr/>
        </p:nvGraphicFramePr>
        <p:xfrm>
          <a:off x="2325600" y="3389400"/>
          <a:ext cx="6935760" cy="36846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2160"/>
                <a:gridCol w="990720"/>
                <a:gridCol w="990720"/>
                <a:gridCol w="9903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 W3"/>
                        </a:rPr>
                        <a:t>X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32560" y="4233960"/>
            <a:ext cx="2043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Axi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interse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750960" y="398520"/>
            <a:ext cx="3273480" cy="25066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3399480" y="2689200"/>
            <a:ext cx="61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  <a:ea typeface="ヒラギノ角ゴ Pro W3"/>
              </a:rPr>
              <a:t>Disc is adjacent to fossa regio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345480" y="7018200"/>
            <a:ext cx="51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erior nec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4" name=""/>
          <p:cNvGraphicFramePr/>
          <p:nvPr/>
        </p:nvGraphicFramePr>
        <p:xfrm>
          <a:off x="2325600" y="3389400"/>
          <a:ext cx="6935760" cy="36846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2160"/>
                <a:gridCol w="990720"/>
                <a:gridCol w="990720"/>
                <a:gridCol w="9903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 W3"/>
                        </a:rPr>
                        <a:t>X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 W3"/>
                        </a:rPr>
                        <a:t>X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5" name=""/>
          <p:cNvSpPr/>
          <p:nvPr/>
        </p:nvSpPr>
        <p:spPr>
          <a:xfrm>
            <a:off x="232560" y="4233960"/>
            <a:ext cx="2043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Axi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interse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852480" y="401760"/>
            <a:ext cx="3630600" cy="264780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3399480" y="2689200"/>
            <a:ext cx="61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  <a:ea typeface="ヒラギノ角ゴ Pro W3"/>
              </a:rPr>
              <a:t>Disc is adjacent to fossa regio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"/>
          <p:cNvSpPr/>
          <p:nvPr/>
        </p:nvSpPr>
        <p:spPr>
          <a:xfrm>
            <a:off x="2739960" y="7040520"/>
            <a:ext cx="63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erior head &amp; nec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9" name=""/>
          <p:cNvGraphicFramePr/>
          <p:nvPr/>
        </p:nvGraphicFramePr>
        <p:xfrm>
          <a:off x="2325600" y="3389400"/>
          <a:ext cx="6935760" cy="36846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2160"/>
                <a:gridCol w="990720"/>
                <a:gridCol w="990720"/>
                <a:gridCol w="9903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 W3"/>
                        </a:rPr>
                        <a:t>X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 W3"/>
                        </a:rPr>
                        <a:t>X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0" name=""/>
          <p:cNvSpPr/>
          <p:nvPr/>
        </p:nvSpPr>
        <p:spPr>
          <a:xfrm>
            <a:off x="232560" y="4233960"/>
            <a:ext cx="2043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Axi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interse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361800" y="0"/>
            <a:ext cx="4313520" cy="29336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3399480" y="2689200"/>
            <a:ext cx="61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  <a:ea typeface="ヒラギノ角ゴ Pro W3"/>
              </a:rPr>
              <a:t>Disc is adjacent to fossa regio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"/>
          <p:cNvSpPr/>
          <p:nvPr/>
        </p:nvSpPr>
        <p:spPr>
          <a:xfrm>
            <a:off x="2418120" y="7040520"/>
            <a:ext cx="69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&amp; anterior hea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onclusions/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Methodology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18800" y="303120"/>
            <a:ext cx="8178840" cy="1131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TMJ ontology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6702480" y="3013200"/>
            <a:ext cx="2802960" cy="2178000"/>
            <a:chOff x="6702480" y="3013200"/>
            <a:chExt cx="2802960" cy="2178000"/>
          </a:xfrm>
        </p:grpSpPr>
        <p:sp>
          <p:nvSpPr>
            <p:cNvPr id="647" name=""/>
            <p:cNvSpPr/>
            <p:nvPr/>
          </p:nvSpPr>
          <p:spPr>
            <a:xfrm>
              <a:off x="6702480" y="4179960"/>
              <a:ext cx="171000" cy="19368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49920" y="4997520"/>
              <a:ext cx="172440" cy="193680"/>
            </a:xfrm>
            <a:prstGeom prst="ellipse">
              <a:avLst/>
            </a:prstGeom>
            <a:solidFill>
              <a:srgbClr val="ff00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867440" y="3013200"/>
              <a:ext cx="172440" cy="1936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34120" y="3714840"/>
              <a:ext cx="172440" cy="193680"/>
            </a:xfrm>
            <a:prstGeom prst="ellipse">
              <a:avLst/>
            </a:prstGeom>
            <a:solidFill>
              <a:srgbClr val="ff151e"/>
            </a:solidFill>
            <a:ln w="25560">
              <a:solidFill>
                <a:srgbClr val="ff15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9334080" y="3930840"/>
              <a:ext cx="171360" cy="19368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738840" y="2997360"/>
            <a:ext cx="2685960" cy="2064960"/>
            <a:chOff x="6738840" y="2997360"/>
            <a:chExt cx="2685960" cy="2064960"/>
          </a:xfrm>
        </p:grpSpPr>
        <p:sp>
          <p:nvSpPr>
            <p:cNvPr id="653" name=""/>
            <p:cNvSpPr/>
            <p:nvPr/>
          </p:nvSpPr>
          <p:spPr>
            <a:xfrm>
              <a:off x="6738840" y="3059280"/>
              <a:ext cx="1109520" cy="1182600"/>
            </a:xfrm>
            <a:custGeom>
              <a:avLst/>
              <a:gdLst/>
              <a:ahLst/>
              <a:rect l="l" t="t" r="r" b="b"/>
              <a:pathLst>
                <a:path w="593" h="628">
                  <a:moveTo>
                    <a:pt x="8" y="628"/>
                  </a:moveTo>
                  <a:cubicBezTo>
                    <a:pt x="4" y="547"/>
                    <a:pt x="0" y="466"/>
                    <a:pt x="26" y="382"/>
                  </a:cubicBezTo>
                  <a:cubicBezTo>
                    <a:pt x="52" y="298"/>
                    <a:pt x="68" y="187"/>
                    <a:pt x="162" y="123"/>
                  </a:cubicBezTo>
                  <a:cubicBezTo>
                    <a:pt x="256" y="59"/>
                    <a:pt x="424" y="29"/>
                    <a:pt x="593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6822720" y="3848040"/>
              <a:ext cx="116208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181720" y="3778200"/>
              <a:ext cx="1128600" cy="19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22720" y="4344840"/>
              <a:ext cx="701640" cy="63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7698960" y="4068360"/>
              <a:ext cx="1659240" cy="99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010360" y="2997360"/>
              <a:ext cx="1414440" cy="920520"/>
            </a:xfrm>
            <a:custGeom>
              <a:avLst/>
              <a:gdLst/>
              <a:ahLst/>
              <a:rect l="l" t="t" r="r" b="b"/>
              <a:pathLst>
                <a:path w="756" h="489">
                  <a:moveTo>
                    <a:pt x="0" y="45"/>
                  </a:moveTo>
                  <a:cubicBezTo>
                    <a:pt x="147" y="22"/>
                    <a:pt x="295" y="0"/>
                    <a:pt x="412" y="45"/>
                  </a:cubicBezTo>
                  <a:cubicBezTo>
                    <a:pt x="529" y="90"/>
                    <a:pt x="646" y="242"/>
                    <a:pt x="701" y="316"/>
                  </a:cubicBezTo>
                  <a:cubicBezTo>
                    <a:pt x="756" y="390"/>
                    <a:pt x="750" y="439"/>
                    <a:pt x="744" y="48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85280" y="1347840"/>
            <a:ext cx="3999240" cy="1986480"/>
            <a:chOff x="485280" y="1347840"/>
            <a:chExt cx="3999240" cy="1986480"/>
          </a:xfrm>
        </p:grpSpPr>
        <p:sp>
          <p:nvSpPr>
            <p:cNvPr id="660" name=""/>
            <p:cNvSpPr/>
            <p:nvPr/>
          </p:nvSpPr>
          <p:spPr>
            <a:xfrm>
              <a:off x="485280" y="2143080"/>
              <a:ext cx="2475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Mereolog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How many par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What kind of par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1963800" y="1347840"/>
              <a:ext cx="252072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3816360" y="1338120"/>
            <a:ext cx="2221200" cy="2679120"/>
            <a:chOff x="3816360" y="1338120"/>
            <a:chExt cx="2221200" cy="2679120"/>
          </a:xfrm>
        </p:grpSpPr>
        <p:sp>
          <p:nvSpPr>
            <p:cNvPr id="663" name=""/>
            <p:cNvSpPr/>
            <p:nvPr/>
          </p:nvSpPr>
          <p:spPr>
            <a:xfrm>
              <a:off x="3816360" y="2216160"/>
              <a:ext cx="2221200" cy="18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Topolog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Which parts are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conn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Which parts ar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djacen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933800" y="1338120"/>
              <a:ext cx="0" cy="79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18800" y="303120"/>
            <a:ext cx="8178840" cy="1131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TMJ ontology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485280" y="1347840"/>
            <a:ext cx="3999240" cy="1986480"/>
            <a:chOff x="485280" y="1347840"/>
            <a:chExt cx="3999240" cy="1986480"/>
          </a:xfrm>
        </p:grpSpPr>
        <p:sp>
          <p:nvSpPr>
            <p:cNvPr id="667" name=""/>
            <p:cNvSpPr/>
            <p:nvPr/>
          </p:nvSpPr>
          <p:spPr>
            <a:xfrm>
              <a:off x="485280" y="2143080"/>
              <a:ext cx="2475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Mereolog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How many par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What kind of par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1963800" y="1347840"/>
              <a:ext cx="252072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3816360" y="1338120"/>
            <a:ext cx="2221200" cy="2679120"/>
            <a:chOff x="3816360" y="1338120"/>
            <a:chExt cx="2221200" cy="2679120"/>
          </a:xfrm>
        </p:grpSpPr>
        <p:sp>
          <p:nvSpPr>
            <p:cNvPr id="670" name=""/>
            <p:cNvSpPr/>
            <p:nvPr/>
          </p:nvSpPr>
          <p:spPr>
            <a:xfrm>
              <a:off x="3816360" y="2216160"/>
              <a:ext cx="2221200" cy="18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Topolog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Which parts are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conn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Which parts ar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djacen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933800" y="1338120"/>
              <a:ext cx="0" cy="79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5315040" y="1328760"/>
            <a:ext cx="4745160" cy="3037680"/>
            <a:chOff x="5315040" y="1328760"/>
            <a:chExt cx="4745160" cy="3037680"/>
          </a:xfrm>
        </p:grpSpPr>
        <p:sp>
          <p:nvSpPr>
            <p:cNvPr id="673" name=""/>
            <p:cNvSpPr/>
            <p:nvPr/>
          </p:nvSpPr>
          <p:spPr>
            <a:xfrm>
              <a:off x="6629040" y="2260440"/>
              <a:ext cx="3431160" cy="21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Qualitative order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How are things arranged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with respect to each othe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How does relative location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change during movement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315040" y="1328760"/>
              <a:ext cx="2363760" cy="82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"/>
          <p:cNvGrpSpPr/>
          <p:nvPr/>
        </p:nvGrpSpPr>
        <p:grpSpPr>
          <a:xfrm>
            <a:off x="1859040" y="2852640"/>
            <a:ext cx="2802960" cy="2193840"/>
            <a:chOff x="1859040" y="2852640"/>
            <a:chExt cx="2802960" cy="2193840"/>
          </a:xfrm>
        </p:grpSpPr>
        <p:grpSp>
          <p:nvGrpSpPr>
            <p:cNvPr id="676" name=""/>
            <p:cNvGrpSpPr/>
            <p:nvPr/>
          </p:nvGrpSpPr>
          <p:grpSpPr>
            <a:xfrm>
              <a:off x="1859040" y="2868480"/>
              <a:ext cx="2802960" cy="2178000"/>
              <a:chOff x="1859040" y="2868480"/>
              <a:chExt cx="2802960" cy="2178000"/>
            </a:xfrm>
          </p:grpSpPr>
          <p:sp>
            <p:nvSpPr>
              <p:cNvPr id="677" name=""/>
              <p:cNvSpPr/>
              <p:nvPr/>
            </p:nvSpPr>
            <p:spPr>
              <a:xfrm>
                <a:off x="1859040" y="4035240"/>
                <a:ext cx="171000" cy="193680"/>
              </a:xfrm>
              <a:prstGeom prst="ellipse">
                <a:avLst/>
              </a:prstGeom>
              <a:solidFill>
                <a:srgbClr val="0000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706480" y="4852800"/>
                <a:ext cx="172440" cy="193680"/>
              </a:xfrm>
              <a:prstGeom prst="ellipse">
                <a:avLst/>
              </a:prstGeom>
              <a:solidFill>
                <a:srgbClr val="ff00ff"/>
              </a:solidFill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024000" y="2868480"/>
                <a:ext cx="172440" cy="19368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190680" y="3570120"/>
                <a:ext cx="172440" cy="193680"/>
              </a:xfrm>
              <a:prstGeom prst="ellipse">
                <a:avLst/>
              </a:prstGeom>
              <a:solidFill>
                <a:srgbClr val="ff151e"/>
              </a:solidFill>
              <a:ln w="25560">
                <a:solidFill>
                  <a:srgbClr val="ff1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490640" y="3786120"/>
                <a:ext cx="171360" cy="193680"/>
              </a:xfrm>
              <a:prstGeom prst="ellipse">
                <a:avLst/>
              </a:prstGeom>
              <a:solidFill>
                <a:srgbClr val="00ff00"/>
              </a:solidFill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1895400" y="2852640"/>
              <a:ext cx="2685960" cy="2064960"/>
              <a:chOff x="1895400" y="2852640"/>
              <a:chExt cx="2685960" cy="2064960"/>
            </a:xfrm>
          </p:grpSpPr>
          <p:sp>
            <p:nvSpPr>
              <p:cNvPr id="683" name=""/>
              <p:cNvSpPr/>
              <p:nvPr/>
            </p:nvSpPr>
            <p:spPr>
              <a:xfrm>
                <a:off x="1895400" y="2914560"/>
                <a:ext cx="1109520" cy="1182600"/>
              </a:xfrm>
              <a:custGeom>
                <a:avLst/>
                <a:gdLst/>
                <a:ahLst/>
                <a:rect l="l" t="t" r="r" b="b"/>
                <a:pathLst>
                  <a:path w="593" h="628">
                    <a:moveTo>
                      <a:pt x="8" y="628"/>
                    </a:moveTo>
                    <a:cubicBezTo>
                      <a:pt x="4" y="547"/>
                      <a:pt x="0" y="466"/>
                      <a:pt x="26" y="382"/>
                    </a:cubicBezTo>
                    <a:cubicBezTo>
                      <a:pt x="52" y="298"/>
                      <a:pt x="68" y="187"/>
                      <a:pt x="162" y="123"/>
                    </a:cubicBezTo>
                    <a:cubicBezTo>
                      <a:pt x="256" y="59"/>
                      <a:pt x="424" y="29"/>
                      <a:pt x="593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1979280" y="3703320"/>
                <a:ext cx="116208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338280" y="3633480"/>
                <a:ext cx="1128600" cy="195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979280" y="4200120"/>
                <a:ext cx="701640" cy="636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2855520" y="3923640"/>
                <a:ext cx="1659240" cy="993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166920" y="2852640"/>
                <a:ext cx="1414440" cy="920520"/>
              </a:xfrm>
              <a:custGeom>
                <a:avLst/>
                <a:gdLst/>
                <a:ahLst/>
                <a:rect l="l" t="t" r="r" b="b"/>
                <a:pathLst>
                  <a:path w="756" h="489">
                    <a:moveTo>
                      <a:pt x="0" y="45"/>
                    </a:moveTo>
                    <a:cubicBezTo>
                      <a:pt x="147" y="22"/>
                      <a:pt x="295" y="0"/>
                      <a:pt x="412" y="45"/>
                    </a:cubicBezTo>
                    <a:cubicBezTo>
                      <a:pt x="529" y="90"/>
                      <a:pt x="646" y="242"/>
                      <a:pt x="701" y="316"/>
                    </a:cubicBezTo>
                    <a:cubicBezTo>
                      <a:pt x="756" y="390"/>
                      <a:pt x="750" y="439"/>
                      <a:pt x="744" y="4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18800" y="303120"/>
            <a:ext cx="8178840" cy="1131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TMJ ontology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5315040" y="1328760"/>
            <a:ext cx="4745160" cy="3037680"/>
            <a:chOff x="5315040" y="1328760"/>
            <a:chExt cx="4745160" cy="3037680"/>
          </a:xfrm>
        </p:grpSpPr>
        <p:sp>
          <p:nvSpPr>
            <p:cNvPr id="691" name=""/>
            <p:cNvSpPr/>
            <p:nvPr/>
          </p:nvSpPr>
          <p:spPr>
            <a:xfrm>
              <a:off x="6629040" y="2260440"/>
              <a:ext cx="3431160" cy="21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Qualitative order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How are things arranged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with respect to each othe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How does relative location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change during movement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315040" y="1328760"/>
              <a:ext cx="2363760" cy="82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1866960" y="2630520"/>
            <a:ext cx="2803320" cy="2405160"/>
            <a:chOff x="1866960" y="2630520"/>
            <a:chExt cx="2803320" cy="2405160"/>
          </a:xfrm>
        </p:grpSpPr>
        <p:grpSp>
          <p:nvGrpSpPr>
            <p:cNvPr id="694" name=""/>
            <p:cNvGrpSpPr/>
            <p:nvPr/>
          </p:nvGrpSpPr>
          <p:grpSpPr>
            <a:xfrm>
              <a:off x="1866960" y="2630520"/>
              <a:ext cx="2803320" cy="2405160"/>
              <a:chOff x="1866960" y="2630520"/>
              <a:chExt cx="2803320" cy="2405160"/>
            </a:xfrm>
          </p:grpSpPr>
          <p:sp>
            <p:nvSpPr>
              <p:cNvPr id="695" name=""/>
              <p:cNvSpPr/>
              <p:nvPr/>
            </p:nvSpPr>
            <p:spPr>
              <a:xfrm>
                <a:off x="1866960" y="4024440"/>
                <a:ext cx="171360" cy="193680"/>
              </a:xfrm>
              <a:prstGeom prst="ellipse">
                <a:avLst/>
              </a:prstGeom>
              <a:solidFill>
                <a:srgbClr val="0000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714760" y="4842000"/>
                <a:ext cx="172800" cy="193680"/>
              </a:xfrm>
              <a:prstGeom prst="ellipse">
                <a:avLst/>
              </a:prstGeom>
              <a:solidFill>
                <a:srgbClr val="ff00ff"/>
              </a:solidFill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022560" y="3422520"/>
                <a:ext cx="173160" cy="193680"/>
              </a:xfrm>
              <a:prstGeom prst="ellipse">
                <a:avLst/>
              </a:prstGeom>
              <a:solidFill>
                <a:srgbClr val="ff151e"/>
              </a:solidFill>
              <a:ln w="25560">
                <a:solidFill>
                  <a:srgbClr val="ff1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498920" y="3774960"/>
                <a:ext cx="171360" cy="193680"/>
              </a:xfrm>
              <a:prstGeom prst="ellipse">
                <a:avLst/>
              </a:prstGeom>
              <a:solidFill>
                <a:srgbClr val="00ff00"/>
              </a:solidFill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962000" y="2913120"/>
                <a:ext cx="182880" cy="1154160"/>
              </a:xfrm>
              <a:custGeom>
                <a:avLst/>
                <a:gdLst/>
                <a:ahLst/>
                <a:rect l="l" t="t" r="r" b="b"/>
                <a:pathLst>
                  <a:path w="593" h="628">
                    <a:moveTo>
                      <a:pt x="8" y="628"/>
                    </a:moveTo>
                    <a:cubicBezTo>
                      <a:pt x="4" y="547"/>
                      <a:pt x="0" y="466"/>
                      <a:pt x="26" y="382"/>
                    </a:cubicBezTo>
                    <a:cubicBezTo>
                      <a:pt x="52" y="298"/>
                      <a:pt x="68" y="187"/>
                      <a:pt x="162" y="123"/>
                    </a:cubicBezTo>
                    <a:cubicBezTo>
                      <a:pt x="256" y="59"/>
                      <a:pt x="424" y="29"/>
                      <a:pt x="593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1987560" y="3506760"/>
                <a:ext cx="995400" cy="566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987560" y="4189320"/>
                <a:ext cx="701640" cy="636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2863800" y="3913200"/>
                <a:ext cx="1658880" cy="993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073400" y="2741760"/>
                <a:ext cx="525600" cy="1020600"/>
              </a:xfrm>
              <a:custGeom>
                <a:avLst/>
                <a:gdLst/>
                <a:ahLst/>
                <a:rect l="l" t="t" r="r" b="b"/>
                <a:pathLst>
                  <a:path w="756" h="489">
                    <a:moveTo>
                      <a:pt x="0" y="45"/>
                    </a:moveTo>
                    <a:cubicBezTo>
                      <a:pt x="147" y="22"/>
                      <a:pt x="295" y="0"/>
                      <a:pt x="412" y="45"/>
                    </a:cubicBezTo>
                    <a:cubicBezTo>
                      <a:pt x="529" y="90"/>
                      <a:pt x="646" y="242"/>
                      <a:pt x="701" y="316"/>
                    </a:cubicBezTo>
                    <a:cubicBezTo>
                      <a:pt x="756" y="390"/>
                      <a:pt x="750" y="439"/>
                      <a:pt x="744" y="4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104200" y="2630520"/>
                <a:ext cx="2154240" cy="459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A|B|C|D|E|F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3267000" y="3505320"/>
              <a:ext cx="1208160" cy="31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3087720" y="3057120"/>
            <a:ext cx="3076560" cy="451800"/>
            <a:chOff x="3087720" y="3057120"/>
            <a:chExt cx="3076560" cy="451800"/>
          </a:xfrm>
        </p:grpSpPr>
        <p:sp>
          <p:nvSpPr>
            <p:cNvPr id="707" name=""/>
            <p:cNvSpPr/>
            <p:nvPr/>
          </p:nvSpPr>
          <p:spPr>
            <a:xfrm flipV="1">
              <a:off x="3087720" y="3057120"/>
              <a:ext cx="0" cy="322200"/>
            </a:xfrm>
            <a:prstGeom prst="line">
              <a:avLst/>
            </a:prstGeom>
            <a:ln w="255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700520" y="3110040"/>
              <a:ext cx="146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adjacent-to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46400" y="3252960"/>
              <a:ext cx="1670040" cy="8856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2793960" y="3115800"/>
            <a:ext cx="2269800" cy="1917000"/>
            <a:chOff x="2793960" y="3115800"/>
            <a:chExt cx="2269800" cy="1917000"/>
          </a:xfrm>
        </p:grpSpPr>
        <p:sp>
          <p:nvSpPr>
            <p:cNvPr id="711" name=""/>
            <p:cNvSpPr/>
            <p:nvPr/>
          </p:nvSpPr>
          <p:spPr>
            <a:xfrm flipV="1">
              <a:off x="2793960" y="3115800"/>
              <a:ext cx="19080" cy="1660680"/>
            </a:xfrm>
            <a:prstGeom prst="line">
              <a:avLst/>
            </a:prstGeom>
            <a:ln w="255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720240" y="4633920"/>
              <a:ext cx="134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intersec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52640" y="4357800"/>
              <a:ext cx="1025640" cy="527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8800" y="94896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4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equenc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to resolve conflicts that arise out of pre-coordination in the face of deeply held beliefs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earch is necessary to determine if such pre-coordinations are valid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6880" y="141120"/>
            <a:ext cx="8178840" cy="635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MJ DYNAMICS: NORM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00240" y="1312920"/>
            <a:ext cx="7237440" cy="2374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284560" y="3859200"/>
            <a:ext cx="4922640" cy="2475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94240" y="6613560"/>
            <a:ext cx="509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Times New Roman"/>
              </a:rPr>
              <a:t>Annika Isberg,Temporomandibular joint Dysfunction:A Practitioner's Guide,  ISIS Medical Media, 2001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93520" y="129960"/>
            <a:ext cx="8178840" cy="633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MJ DYNAMICS: NORMAL &amp; ABNORM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55920" y="1731960"/>
            <a:ext cx="7084800" cy="4606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84800" y="6799320"/>
            <a:ext cx="455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Times New Roman"/>
              </a:rPr>
              <a:t>Annika Isberg,Temporomandibular joint Dysfunction:A Practitioner's Guide,  ISIS Medical Media, 2001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uis Goldberg</cp:lastModifiedBy>
  <cp:lastPrinted>2006-03-03T19:39:42Z</cp:lastPrinted>
  <dcterms:modified xsi:type="dcterms:W3CDTF">2006-03-25T21:48:15Z</dcterms:modified>
  <cp:revision>360</cp:revision>
  <dc:subject/>
  <dc:title>Ontology of joints and ontology of  joint imaging</dc:title>
</cp:coreProperties>
</file>